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90360" y="6485040"/>
            <a:ext cx="1270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Aprendizaje basado en Actividades y Reforma del Contenido Curricular de Cienci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1430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 Century Schlbk"/>
              </a:rPr>
              <a:t>Ronald Thornt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 Century Schlbk"/>
              </a:rPr>
              <a:t>Profesor de Física y Educación del Centro para la Enseñanza de Ciencias y Matemáticas de la Univerdidad de Tuf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289320" cy="32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21280" y="6075360"/>
            <a:ext cx="140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14240" y="1781280"/>
            <a:ext cx="8020080" cy="4362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70920" y="5510160"/>
            <a:ext cx="4043520" cy="302040"/>
            <a:chOff x="1870920" y="5510160"/>
            <a:chExt cx="4043520" cy="302040"/>
          </a:xfrm>
        </p:grpSpPr>
        <p:sp>
          <p:nvSpPr>
            <p:cNvPr id="330" name=""/>
            <p:cNvSpPr/>
            <p:nvPr/>
          </p:nvSpPr>
          <p:spPr>
            <a:xfrm>
              <a:off x="5486400" y="5600880"/>
              <a:ext cx="2667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26640" y="5510160"/>
              <a:ext cx="48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0060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4120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7664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1724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4008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8068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1612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5672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30320" y="5600880"/>
              <a:ext cx="1144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70920" y="551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000160" y="5460480"/>
            <a:ext cx="3632400" cy="51480"/>
            <a:chOff x="2000160" y="5460480"/>
            <a:chExt cx="3632400" cy="51480"/>
          </a:xfrm>
        </p:grpSpPr>
        <p:sp>
          <p:nvSpPr>
            <p:cNvPr id="343" name=""/>
            <p:cNvSpPr/>
            <p:nvPr/>
          </p:nvSpPr>
          <p:spPr>
            <a:xfrm flipV="1">
              <a:off x="200016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36844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72412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9240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44808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81636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18464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54032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90860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26428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63256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00160" y="5467320"/>
              <a:ext cx="36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99680" y="2705040"/>
            <a:ext cx="1564920" cy="2425320"/>
            <a:chOff x="499680" y="2705040"/>
            <a:chExt cx="1564920" cy="2425320"/>
          </a:xfrm>
        </p:grpSpPr>
        <p:sp>
          <p:nvSpPr>
            <p:cNvPr id="356" name=""/>
            <p:cNvSpPr/>
            <p:nvPr/>
          </p:nvSpPr>
          <p:spPr>
            <a:xfrm>
              <a:off x="1079640" y="4876920"/>
              <a:ext cx="8254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59760" y="4813200"/>
              <a:ext cx="1104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New Century Schlbk"/>
                </a:rPr>
                <a:t>Velocidad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7640" y="3822840"/>
              <a:ext cx="12700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9680" y="3759120"/>
              <a:ext cx="13914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New Century Schlbk"/>
                </a:rPr>
                <a:t>Acceleració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08240" y="2768760"/>
              <a:ext cx="6094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08520" y="2705040"/>
              <a:ext cx="8200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New Century Schlbk"/>
                </a:rPr>
                <a:t>Fuerz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74960" y="2298600"/>
            <a:ext cx="25200" cy="3168720"/>
            <a:chOff x="1974960" y="2298600"/>
            <a:chExt cx="25200" cy="3168720"/>
          </a:xfrm>
        </p:grpSpPr>
        <p:sp>
          <p:nvSpPr>
            <p:cNvPr id="363" name=""/>
            <p:cNvSpPr/>
            <p:nvPr/>
          </p:nvSpPr>
          <p:spPr>
            <a:xfrm>
              <a:off x="1974960" y="54673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74960" y="4413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74960" y="3359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74960" y="2305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000160" y="2298600"/>
              <a:ext cx="0" cy="316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994040" y="2946240"/>
            <a:ext cx="1639800" cy="2351160"/>
            <a:chOff x="1994040" y="2946240"/>
            <a:chExt cx="1639800" cy="2351160"/>
          </a:xfrm>
        </p:grpSpPr>
        <p:sp>
          <p:nvSpPr>
            <p:cNvPr id="369" name=""/>
            <p:cNvSpPr/>
            <p:nvPr/>
          </p:nvSpPr>
          <p:spPr>
            <a:xfrm>
              <a:off x="1994040" y="5054760"/>
              <a:ext cx="1639800" cy="242640"/>
            </a:xfrm>
            <a:custGeom>
              <a:avLst/>
              <a:gdLst/>
              <a:ahLst/>
              <a:rect l="l" t="t" r="r" b="b"/>
              <a:pathLst>
                <a:path w="1033" h="153">
                  <a:moveTo>
                    <a:pt x="0" y="152"/>
                  </a:moveTo>
                  <a:lnTo>
                    <a:pt x="1032" y="152"/>
                  </a:lnTo>
                  <a:lnTo>
                    <a:pt x="1032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94040" y="4000680"/>
              <a:ext cx="623880" cy="242640"/>
            </a:xfrm>
            <a:custGeom>
              <a:avLst/>
              <a:gdLst/>
              <a:ahLst/>
              <a:rect l="l" t="t" r="r" b="b"/>
              <a:pathLst>
                <a:path w="393" h="153">
                  <a:moveTo>
                    <a:pt x="0" y="152"/>
                  </a:moveTo>
                  <a:lnTo>
                    <a:pt x="392" y="152"/>
                  </a:lnTo>
                  <a:lnTo>
                    <a:pt x="392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94040" y="2946240"/>
              <a:ext cx="255600" cy="243000"/>
            </a:xfrm>
            <a:custGeom>
              <a:avLst/>
              <a:gdLst/>
              <a:ahLst/>
              <a:rect l="l" t="t" r="r" b="b"/>
              <a:pathLst>
                <a:path w="161" h="153">
                  <a:moveTo>
                    <a:pt x="0" y="152"/>
                  </a:moveTo>
                  <a:lnTo>
                    <a:pt x="160" y="152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994040" y="2705040"/>
            <a:ext cx="1995480" cy="2351160"/>
            <a:chOff x="1994040" y="2705040"/>
            <a:chExt cx="1995480" cy="2351160"/>
          </a:xfrm>
        </p:grpSpPr>
        <p:sp>
          <p:nvSpPr>
            <p:cNvPr id="373" name=""/>
            <p:cNvSpPr/>
            <p:nvPr/>
          </p:nvSpPr>
          <p:spPr>
            <a:xfrm>
              <a:off x="1994040" y="4813200"/>
              <a:ext cx="1995480" cy="243000"/>
            </a:xfrm>
            <a:custGeom>
              <a:avLst/>
              <a:gdLst/>
              <a:ahLst/>
              <a:rect l="l" t="t" r="r" b="b"/>
              <a:pathLst>
                <a:path w="1257" h="153">
                  <a:moveTo>
                    <a:pt x="0" y="152"/>
                  </a:moveTo>
                  <a:lnTo>
                    <a:pt x="1256" y="152"/>
                  </a:lnTo>
                  <a:lnTo>
                    <a:pt x="1256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94040" y="3759120"/>
              <a:ext cx="979200" cy="243000"/>
            </a:xfrm>
            <a:custGeom>
              <a:avLst/>
              <a:gdLst/>
              <a:ahLst/>
              <a:rect l="l" t="t" r="r" b="b"/>
              <a:pathLst>
                <a:path w="617" h="153">
                  <a:moveTo>
                    <a:pt x="0" y="152"/>
                  </a:moveTo>
                  <a:lnTo>
                    <a:pt x="616" y="152"/>
                  </a:lnTo>
                  <a:lnTo>
                    <a:pt x="616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94040" y="2705040"/>
              <a:ext cx="725400" cy="243000"/>
            </a:xfrm>
            <a:custGeom>
              <a:avLst/>
              <a:gdLst/>
              <a:ahLst/>
              <a:rect l="l" t="t" r="r" b="b"/>
              <a:pathLst>
                <a:path w="457" h="153">
                  <a:moveTo>
                    <a:pt x="0" y="152"/>
                  </a:moveTo>
                  <a:lnTo>
                    <a:pt x="456" y="152"/>
                  </a:lnTo>
                  <a:lnTo>
                    <a:pt x="456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181480" y="2692440"/>
            <a:ext cx="2286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71960" y="2927520"/>
            <a:ext cx="203400" cy="190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99000" y="3149640"/>
            <a:ext cx="1371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38720" y="2882880"/>
            <a:ext cx="763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 Century Schlbk"/>
              </a:rPr>
              <a:t>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71960" y="2584440"/>
            <a:ext cx="20340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74120" y="2463840"/>
            <a:ext cx="372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 Century Schlbk"/>
              </a:rPr>
              <a:t>Después de Instrucción Tradi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34960" y="1892160"/>
            <a:ext cx="472464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97080" y="5854680"/>
            <a:ext cx="327672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152280"/>
            <a:ext cx="815328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ursos Universitarios de Física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cf4ea"/>
                </a:solidFill>
                <a:latin typeface="Times New Roman"/>
              </a:rPr>
              <a:t>Después de Instrucción Tradi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68400" y="5819760"/>
            <a:ext cx="579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% de Estudiantes que Comprenden los Concep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35640" y="1819440"/>
            <a:ext cx="615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Resultados promedio con Estudiantes Universi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61960" y="1781280"/>
            <a:ext cx="8020080" cy="4362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52280"/>
            <a:ext cx="8153280" cy="12193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ursos Universitarios de Fís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</a:rPr>
              <a:t>Después de usar los Nuevos Méto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870920" y="5510160"/>
            <a:ext cx="4043520" cy="302040"/>
            <a:chOff x="1870920" y="5510160"/>
            <a:chExt cx="4043520" cy="302040"/>
          </a:xfrm>
        </p:grpSpPr>
        <p:sp>
          <p:nvSpPr>
            <p:cNvPr id="391" name=""/>
            <p:cNvSpPr/>
            <p:nvPr/>
          </p:nvSpPr>
          <p:spPr>
            <a:xfrm>
              <a:off x="5486400" y="5600880"/>
              <a:ext cx="2667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26640" y="5510160"/>
              <a:ext cx="48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0060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4120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7664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1724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4008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8068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1612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5672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30320" y="5600880"/>
              <a:ext cx="1144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70920" y="551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000160" y="5460480"/>
            <a:ext cx="3632400" cy="51480"/>
            <a:chOff x="2000160" y="5460480"/>
            <a:chExt cx="3632400" cy="51480"/>
          </a:xfrm>
        </p:grpSpPr>
        <p:sp>
          <p:nvSpPr>
            <p:cNvPr id="404" name=""/>
            <p:cNvSpPr/>
            <p:nvPr/>
          </p:nvSpPr>
          <p:spPr>
            <a:xfrm flipV="1">
              <a:off x="200016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36844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272412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09240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44808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81636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18464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454032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90860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26428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63256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0160" y="5467320"/>
              <a:ext cx="36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26680" y="2705040"/>
            <a:ext cx="1564920" cy="2425320"/>
            <a:chOff x="526680" y="2705040"/>
            <a:chExt cx="1564920" cy="2425320"/>
          </a:xfrm>
        </p:grpSpPr>
        <p:sp>
          <p:nvSpPr>
            <p:cNvPr id="417" name=""/>
            <p:cNvSpPr/>
            <p:nvPr/>
          </p:nvSpPr>
          <p:spPr>
            <a:xfrm>
              <a:off x="1106640" y="4876920"/>
              <a:ext cx="8254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86760" y="4813200"/>
              <a:ext cx="1104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New Century Schlbk"/>
                </a:rPr>
                <a:t>Velocidad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640" y="3822840"/>
              <a:ext cx="12700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6680" y="3759120"/>
              <a:ext cx="13914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New Century Schlbk"/>
                </a:rPr>
                <a:t>Acceleració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35240" y="2768760"/>
              <a:ext cx="6094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35520" y="2705040"/>
              <a:ext cx="8200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New Century Schlbk"/>
                </a:rPr>
                <a:t>Fuerz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974960" y="2298600"/>
            <a:ext cx="25200" cy="3168720"/>
            <a:chOff x="1974960" y="2298600"/>
            <a:chExt cx="25200" cy="3168720"/>
          </a:xfrm>
        </p:grpSpPr>
        <p:sp>
          <p:nvSpPr>
            <p:cNvPr id="424" name=""/>
            <p:cNvSpPr/>
            <p:nvPr/>
          </p:nvSpPr>
          <p:spPr>
            <a:xfrm>
              <a:off x="1974960" y="54673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74960" y="4413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74960" y="3359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74960" y="2305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2000160" y="2298600"/>
              <a:ext cx="0" cy="316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994040" y="2946240"/>
            <a:ext cx="1639800" cy="2351160"/>
            <a:chOff x="1994040" y="2946240"/>
            <a:chExt cx="1639800" cy="2351160"/>
          </a:xfrm>
        </p:grpSpPr>
        <p:sp>
          <p:nvSpPr>
            <p:cNvPr id="430" name=""/>
            <p:cNvSpPr/>
            <p:nvPr/>
          </p:nvSpPr>
          <p:spPr>
            <a:xfrm>
              <a:off x="1994040" y="5054760"/>
              <a:ext cx="1639800" cy="242640"/>
            </a:xfrm>
            <a:custGeom>
              <a:avLst/>
              <a:gdLst/>
              <a:ahLst/>
              <a:rect l="l" t="t" r="r" b="b"/>
              <a:pathLst>
                <a:path w="1033" h="153">
                  <a:moveTo>
                    <a:pt x="0" y="152"/>
                  </a:moveTo>
                  <a:lnTo>
                    <a:pt x="1032" y="152"/>
                  </a:lnTo>
                  <a:lnTo>
                    <a:pt x="1032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4040" y="4000680"/>
              <a:ext cx="623880" cy="242640"/>
            </a:xfrm>
            <a:custGeom>
              <a:avLst/>
              <a:gdLst/>
              <a:ahLst/>
              <a:rect l="l" t="t" r="r" b="b"/>
              <a:pathLst>
                <a:path w="393" h="153">
                  <a:moveTo>
                    <a:pt x="0" y="152"/>
                  </a:moveTo>
                  <a:lnTo>
                    <a:pt x="392" y="152"/>
                  </a:lnTo>
                  <a:lnTo>
                    <a:pt x="392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2946240"/>
              <a:ext cx="255600" cy="243000"/>
            </a:xfrm>
            <a:custGeom>
              <a:avLst/>
              <a:gdLst/>
              <a:ahLst/>
              <a:rect l="l" t="t" r="r" b="b"/>
              <a:pathLst>
                <a:path w="161" h="153">
                  <a:moveTo>
                    <a:pt x="0" y="152"/>
                  </a:moveTo>
                  <a:lnTo>
                    <a:pt x="160" y="152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994040" y="2705040"/>
            <a:ext cx="1995480" cy="2351160"/>
            <a:chOff x="1994040" y="2705040"/>
            <a:chExt cx="1995480" cy="2351160"/>
          </a:xfrm>
        </p:grpSpPr>
        <p:sp>
          <p:nvSpPr>
            <p:cNvPr id="434" name=""/>
            <p:cNvSpPr/>
            <p:nvPr/>
          </p:nvSpPr>
          <p:spPr>
            <a:xfrm>
              <a:off x="1994040" y="4813200"/>
              <a:ext cx="1995480" cy="243000"/>
            </a:xfrm>
            <a:custGeom>
              <a:avLst/>
              <a:gdLst/>
              <a:ahLst/>
              <a:rect l="l" t="t" r="r" b="b"/>
              <a:pathLst>
                <a:path w="1257" h="153">
                  <a:moveTo>
                    <a:pt x="0" y="152"/>
                  </a:moveTo>
                  <a:lnTo>
                    <a:pt x="1256" y="152"/>
                  </a:lnTo>
                  <a:lnTo>
                    <a:pt x="1256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94040" y="3759120"/>
              <a:ext cx="979200" cy="243000"/>
            </a:xfrm>
            <a:custGeom>
              <a:avLst/>
              <a:gdLst/>
              <a:ahLst/>
              <a:rect l="l" t="t" r="r" b="b"/>
              <a:pathLst>
                <a:path w="617" h="153">
                  <a:moveTo>
                    <a:pt x="0" y="152"/>
                  </a:moveTo>
                  <a:lnTo>
                    <a:pt x="616" y="152"/>
                  </a:lnTo>
                  <a:lnTo>
                    <a:pt x="616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94040" y="2705040"/>
              <a:ext cx="725400" cy="243000"/>
            </a:xfrm>
            <a:custGeom>
              <a:avLst/>
              <a:gdLst/>
              <a:ahLst/>
              <a:rect l="l" t="t" r="r" b="b"/>
              <a:pathLst>
                <a:path w="457" h="153">
                  <a:moveTo>
                    <a:pt x="0" y="152"/>
                  </a:moveTo>
                  <a:lnTo>
                    <a:pt x="456" y="152"/>
                  </a:lnTo>
                  <a:lnTo>
                    <a:pt x="456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94040" y="2463840"/>
            <a:ext cx="3456000" cy="2351160"/>
            <a:chOff x="1994040" y="2463840"/>
            <a:chExt cx="3456000" cy="2351160"/>
          </a:xfrm>
        </p:grpSpPr>
        <p:sp>
          <p:nvSpPr>
            <p:cNvPr id="438" name=""/>
            <p:cNvSpPr/>
            <p:nvPr/>
          </p:nvSpPr>
          <p:spPr>
            <a:xfrm>
              <a:off x="1994040" y="4572000"/>
              <a:ext cx="3456000" cy="243000"/>
            </a:xfrm>
            <a:custGeom>
              <a:avLst/>
              <a:gdLst/>
              <a:ahLst/>
              <a:rect l="l" t="t" r="r" b="b"/>
              <a:pathLst>
                <a:path w="2177" h="153">
                  <a:moveTo>
                    <a:pt x="0" y="152"/>
                  </a:moveTo>
                  <a:lnTo>
                    <a:pt x="2176" y="152"/>
                  </a:lnTo>
                  <a:lnTo>
                    <a:pt x="2176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94040" y="3517920"/>
              <a:ext cx="3341520" cy="243000"/>
            </a:xfrm>
            <a:custGeom>
              <a:avLst/>
              <a:gdLst/>
              <a:ahLst/>
              <a:rect l="l" t="t" r="r" b="b"/>
              <a:pathLst>
                <a:path w="2105" h="153">
                  <a:moveTo>
                    <a:pt x="0" y="152"/>
                  </a:moveTo>
                  <a:lnTo>
                    <a:pt x="2104" y="152"/>
                  </a:lnTo>
                  <a:lnTo>
                    <a:pt x="2104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94040" y="2463840"/>
              <a:ext cx="3163680" cy="243000"/>
            </a:xfrm>
            <a:custGeom>
              <a:avLst/>
              <a:gdLst/>
              <a:ahLst/>
              <a:rect l="l" t="t" r="r" b="b"/>
              <a:pathLst>
                <a:path w="1993" h="153">
                  <a:moveTo>
                    <a:pt x="0" y="152"/>
                  </a:moveTo>
                  <a:lnTo>
                    <a:pt x="1992" y="152"/>
                  </a:lnTo>
                  <a:lnTo>
                    <a:pt x="1992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181480" y="2692440"/>
            <a:ext cx="2286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99000" y="3149640"/>
            <a:ext cx="1371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99000" y="2959200"/>
            <a:ext cx="1905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05480" y="2533680"/>
            <a:ext cx="203040" cy="2030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75320" y="2755800"/>
            <a:ext cx="144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86040" y="2489040"/>
            <a:ext cx="3420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 Century Schlbk"/>
              </a:rPr>
              <a:t>Después de los Nuevos Méto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34960" y="1892160"/>
            <a:ext cx="472464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97080" y="5854680"/>
            <a:ext cx="327672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05480" y="3308400"/>
            <a:ext cx="203040" cy="190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54520" y="3263760"/>
            <a:ext cx="2508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 Century Schlbk"/>
              </a:rPr>
              <a:t>Antes de la Instr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5480" y="2901960"/>
            <a:ext cx="20304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52640" y="2844720"/>
            <a:ext cx="3096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 Century Schlbk"/>
              </a:rPr>
              <a:t>Después de Instr. Traci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68400" y="5819760"/>
            <a:ext cx="579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% de Estudiantes que Comprenden los Concep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35640" y="1819440"/>
            <a:ext cx="615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Resultados promedio con Estudiantes Universi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Resultados de los Nuevos Métod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635040" y="1447920"/>
            <a:ext cx="8432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¿Cómo se lograron semejantes resultados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ndo las herramientas, contenidos y métodos que han usado durante este taller o usando las Demostraciones Interactivas que mostramos hace unos mom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valuación del Aprendizaje de la Mecánica en un Solo Númer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ndo una ganancia normaliz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49fff"/>
                </a:solidFill>
                <a:latin typeface="Times New Roman"/>
              </a:rPr>
              <a:t>% Conceptos Incorporados /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49fff"/>
                </a:solidFill>
                <a:latin typeface="Times New Roman"/>
              </a:rPr>
              <a:t>Conceptos Ignorados en la Evaluación In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ganancia normalizada del 25% significa que, después de recibir la instrucción, los estudiantes pudieron responder correctamente un cuarto de las preguntas en las que habían fallado anterior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1640" y="380880"/>
            <a:ext cx="84330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84640" y="738360"/>
            <a:ext cx="4402080" cy="5052960"/>
          </a:xfrm>
          <a:custGeom>
            <a:avLst/>
            <a:gdLst/>
            <a:ahLst/>
            <a:rect l="l" t="t" r="r" b="b"/>
            <a:pathLst>
              <a:path w="2773" h="3183">
                <a:moveTo>
                  <a:pt x="0" y="0"/>
                </a:moveTo>
                <a:lnTo>
                  <a:pt x="2772" y="0"/>
                </a:lnTo>
                <a:lnTo>
                  <a:pt x="2772" y="3182"/>
                </a:lnTo>
                <a:lnTo>
                  <a:pt x="0" y="318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84640" y="5497560"/>
            <a:ext cx="4070520" cy="128520"/>
          </a:xfrm>
          <a:custGeom>
            <a:avLst/>
            <a:gdLst/>
            <a:ahLst/>
            <a:rect l="l" t="t" r="r" b="b"/>
            <a:pathLst>
              <a:path w="2564" h="81">
                <a:moveTo>
                  <a:pt x="0" y="0"/>
                </a:moveTo>
                <a:lnTo>
                  <a:pt x="2563" y="0"/>
                </a:lnTo>
                <a:lnTo>
                  <a:pt x="2563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9933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84640" y="5038560"/>
            <a:ext cx="3219480" cy="128880"/>
          </a:xfrm>
          <a:custGeom>
            <a:avLst/>
            <a:gdLst/>
            <a:ahLst/>
            <a:rect l="l" t="t" r="r" b="b"/>
            <a:pathLst>
              <a:path w="2028" h="81">
                <a:moveTo>
                  <a:pt x="0" y="0"/>
                </a:moveTo>
                <a:lnTo>
                  <a:pt x="2027" y="0"/>
                </a:lnTo>
                <a:lnTo>
                  <a:pt x="2027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dd080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84640" y="4579920"/>
            <a:ext cx="3014640" cy="130320"/>
          </a:xfrm>
          <a:custGeom>
            <a:avLst/>
            <a:gdLst/>
            <a:ahLst/>
            <a:rect l="l" t="t" r="r" b="b"/>
            <a:pathLst>
              <a:path w="1899" h="82">
                <a:moveTo>
                  <a:pt x="0" y="0"/>
                </a:moveTo>
                <a:lnTo>
                  <a:pt x="1898" y="0"/>
                </a:lnTo>
                <a:lnTo>
                  <a:pt x="1898" y="81"/>
                </a:lnTo>
                <a:lnTo>
                  <a:pt x="0" y="81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84640" y="4122720"/>
            <a:ext cx="2658960" cy="128520"/>
          </a:xfrm>
          <a:custGeom>
            <a:avLst/>
            <a:gdLst/>
            <a:ahLst/>
            <a:rect l="l" t="t" r="r" b="b"/>
            <a:pathLst>
              <a:path w="1675" h="81">
                <a:moveTo>
                  <a:pt x="0" y="0"/>
                </a:moveTo>
                <a:lnTo>
                  <a:pt x="1674" y="0"/>
                </a:lnTo>
                <a:lnTo>
                  <a:pt x="1674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dd080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84640" y="3664080"/>
            <a:ext cx="2595600" cy="128520"/>
          </a:xfrm>
          <a:custGeom>
            <a:avLst/>
            <a:gdLst/>
            <a:ahLst/>
            <a:rect l="l" t="t" r="r" b="b"/>
            <a:pathLst>
              <a:path w="1635" h="81">
                <a:moveTo>
                  <a:pt x="0" y="0"/>
                </a:moveTo>
                <a:lnTo>
                  <a:pt x="1634" y="0"/>
                </a:lnTo>
                <a:lnTo>
                  <a:pt x="1634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dd080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84640" y="3193920"/>
            <a:ext cx="1590840" cy="141480"/>
          </a:xfrm>
          <a:custGeom>
            <a:avLst/>
            <a:gdLst/>
            <a:ahLst/>
            <a:rect l="l" t="t" r="r" b="b"/>
            <a:pathLst>
              <a:path w="1002" h="89">
                <a:moveTo>
                  <a:pt x="0" y="0"/>
                </a:moveTo>
                <a:lnTo>
                  <a:pt x="1001" y="0"/>
                </a:lnTo>
                <a:lnTo>
                  <a:pt x="1001" y="88"/>
                </a:lnTo>
                <a:lnTo>
                  <a:pt x="0" y="88"/>
                </a:lnTo>
                <a:lnTo>
                  <a:pt x="0" y="0"/>
                </a:lnTo>
              </a:path>
            </a:pathLst>
          </a:custGeom>
          <a:solidFill>
            <a:srgbClr val="dd080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84640" y="2735280"/>
            <a:ext cx="1501920" cy="128520"/>
          </a:xfrm>
          <a:custGeom>
            <a:avLst/>
            <a:gdLst/>
            <a:ahLst/>
            <a:rect l="l" t="t" r="r" b="b"/>
            <a:pathLst>
              <a:path w="946" h="81">
                <a:moveTo>
                  <a:pt x="0" y="0"/>
                </a:moveTo>
                <a:lnTo>
                  <a:pt x="945" y="0"/>
                </a:lnTo>
                <a:lnTo>
                  <a:pt x="945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dd080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84640" y="2278080"/>
            <a:ext cx="968400" cy="128520"/>
          </a:xfrm>
          <a:custGeom>
            <a:avLst/>
            <a:gdLst/>
            <a:ahLst/>
            <a:rect l="l" t="t" r="r" b="b"/>
            <a:pathLst>
              <a:path w="610" h="81">
                <a:moveTo>
                  <a:pt x="0" y="0"/>
                </a:moveTo>
                <a:lnTo>
                  <a:pt x="609" y="0"/>
                </a:lnTo>
                <a:lnTo>
                  <a:pt x="609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84640" y="1819440"/>
            <a:ext cx="712800" cy="128520"/>
          </a:xfrm>
          <a:custGeom>
            <a:avLst/>
            <a:gdLst/>
            <a:ahLst/>
            <a:rect l="l" t="t" r="r" b="b"/>
            <a:pathLst>
              <a:path w="449" h="81">
                <a:moveTo>
                  <a:pt x="0" y="0"/>
                </a:moveTo>
                <a:lnTo>
                  <a:pt x="448" y="0"/>
                </a:lnTo>
                <a:lnTo>
                  <a:pt x="448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84640" y="1360440"/>
            <a:ext cx="674640" cy="128520"/>
          </a:xfrm>
          <a:custGeom>
            <a:avLst/>
            <a:gdLst/>
            <a:ahLst/>
            <a:rect l="l" t="t" r="r" b="b"/>
            <a:pathLst>
              <a:path w="425" h="81">
                <a:moveTo>
                  <a:pt x="0" y="0"/>
                </a:moveTo>
                <a:lnTo>
                  <a:pt x="424" y="0"/>
                </a:lnTo>
                <a:lnTo>
                  <a:pt x="424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84640" y="903240"/>
            <a:ext cx="357120" cy="128520"/>
          </a:xfrm>
          <a:custGeom>
            <a:avLst/>
            <a:gdLst/>
            <a:ahLst/>
            <a:rect l="l" t="t" r="r" b="b"/>
            <a:pathLst>
              <a:path w="225" h="81">
                <a:moveTo>
                  <a:pt x="0" y="0"/>
                </a:moveTo>
                <a:lnTo>
                  <a:pt x="224" y="0"/>
                </a:lnTo>
                <a:lnTo>
                  <a:pt x="224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91120" y="5796000"/>
            <a:ext cx="438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18464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62924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06088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50692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593892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8496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82956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726264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70724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13924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585280" y="5796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744480"/>
            <a:ext cx="0" cy="503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52960" y="579600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52960" y="533700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52960" y="487980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52960" y="442116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52960" y="396396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52960" y="350532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52960" y="303372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52960" y="257652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52960" y="211788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52960" y="166068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52960" y="120168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52960" y="74448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8040" y="304920"/>
            <a:ext cx="880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ción de Ganancia en F(uerza) M(ovimiento)C(onceptual) E(valu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05000" y="5859360"/>
            <a:ext cx="36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05680" y="5859360"/>
            <a:ext cx="438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39120" y="5859360"/>
            <a:ext cx="438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83360" y="5859360"/>
            <a:ext cx="438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16800" y="5859360"/>
            <a:ext cx="438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4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61400" y="5859360"/>
            <a:ext cx="438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06000" y="5859360"/>
            <a:ext cx="438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6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039440" y="5859360"/>
            <a:ext cx="438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7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83680" y="5859360"/>
            <a:ext cx="438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8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917120" y="5859360"/>
            <a:ext cx="438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9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30760" y="5859360"/>
            <a:ext cx="51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5680" y="5329080"/>
            <a:ext cx="400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fts Agebra + ILDs 1994, 1996, 1997 (N=32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9240" y="4948200"/>
            <a:ext cx="327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egon Algebra + ILDs F1991 (N=7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2800" y="4489560"/>
            <a:ext cx="382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ckinson Workshop Physics F1995 (N=4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4160" y="4032360"/>
            <a:ext cx="384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hlenberg Col. Calc + ILDs F1997 (N=87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0760" y="3573360"/>
            <a:ext cx="3659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0f14"/>
                </a:solidFill>
                <a:latin typeface="Arial"/>
              </a:rPr>
              <a:t>RPI Studio Physics + ILDs S1999 (N=25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9960" y="3025800"/>
            <a:ext cx="301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. Ararat H.S. ILDs S1998 (N=3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3680" y="2644920"/>
            <a:ext cx="324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dney Calculus + ILDs 1999 (N=6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9720" y="2185920"/>
            <a:ext cx="3069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0f14"/>
                </a:solidFill>
                <a:latin typeface="Arial"/>
              </a:rPr>
              <a:t>RPI Studio Physics S1998 (N=14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5600" y="1652760"/>
            <a:ext cx="3346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dney Traditional Calc 1995 (N=47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0000" y="1193760"/>
            <a:ext cx="3860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NY Albany Traditional Calc F1998 (N=7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200" y="811080"/>
            <a:ext cx="408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egon Traditional Algebra 1988-1989 (N=23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05240" y="6157800"/>
            <a:ext cx="3198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g&gt; (% Ganancia Normalizada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406280" y="6329520"/>
            <a:ext cx="18432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0" y="533520"/>
          <a:ext cx="906768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067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Resultados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Resumid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era y Segunda Ley de Newton (en lenguaje natura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era y Segunda Ley de Newton (representación gráfic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cera Ley de Newton (choque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cera Ley de Newton (contact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Ganancia Típica de Clases Tradicionales de Buena Ca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261160" y="5870520"/>
            <a:ext cx="4079880" cy="271440"/>
            <a:chOff x="2261160" y="5870520"/>
            <a:chExt cx="4079880" cy="271440"/>
          </a:xfrm>
        </p:grpSpPr>
        <p:sp>
          <p:nvSpPr>
            <p:cNvPr id="535" name=""/>
            <p:cNvSpPr/>
            <p:nvPr/>
          </p:nvSpPr>
          <p:spPr>
            <a:xfrm>
              <a:off x="2261160" y="5870520"/>
              <a:ext cx="1138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1st &amp; 2nd(nl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05520" y="5870520"/>
              <a:ext cx="1166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1st &amp; 2nd(g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27640" y="5870520"/>
              <a:ext cx="88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3rd (coll.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47880" y="5870520"/>
              <a:ext cx="893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3rd (con.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260440" y="5835240"/>
            <a:ext cx="4114800" cy="25560"/>
            <a:chOff x="2260440" y="5835240"/>
            <a:chExt cx="4114800" cy="25560"/>
          </a:xfrm>
        </p:grpSpPr>
        <p:sp>
          <p:nvSpPr>
            <p:cNvPr id="540" name=""/>
            <p:cNvSpPr/>
            <p:nvPr/>
          </p:nvSpPr>
          <p:spPr>
            <a:xfrm flipV="1">
              <a:off x="2260440" y="5835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289320" y="5835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317840" y="5835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5346720" y="5835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375240" y="5835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66920" y="5835600"/>
              <a:ext cx="410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762560" y="2568600"/>
            <a:ext cx="480600" cy="3421080"/>
            <a:chOff x="1762560" y="2568600"/>
            <a:chExt cx="480600" cy="3421080"/>
          </a:xfrm>
        </p:grpSpPr>
        <p:sp>
          <p:nvSpPr>
            <p:cNvPr id="547" name=""/>
            <p:cNvSpPr/>
            <p:nvPr/>
          </p:nvSpPr>
          <p:spPr>
            <a:xfrm>
              <a:off x="1974960" y="57182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55800" y="54007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55800" y="508320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55800" y="477828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55800" y="446076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55800" y="414324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55800" y="38257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55800" y="350820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55800" y="320364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55800" y="28861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62560" y="256860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209320" y="2685600"/>
            <a:ext cx="51120" cy="3150000"/>
            <a:chOff x="2209320" y="2685600"/>
            <a:chExt cx="51120" cy="3150000"/>
          </a:xfrm>
        </p:grpSpPr>
        <p:sp>
          <p:nvSpPr>
            <p:cNvPr id="559" name=""/>
            <p:cNvSpPr/>
            <p:nvPr/>
          </p:nvSpPr>
          <p:spPr>
            <a:xfrm flipH="1">
              <a:off x="220932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235240" y="56833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220932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2235240" y="53658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20932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2235240" y="50482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2209320" y="48960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235240" y="47307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209320" y="45784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235240" y="44132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209320" y="4260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235240" y="41083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209320" y="3943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235240" y="37908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209320" y="3625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235240" y="34732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209320" y="33210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235240" y="31561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209320" y="30034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235240" y="28386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209320" y="2685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260440" y="2685600"/>
              <a:ext cx="0" cy="314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266920" y="2685960"/>
            <a:ext cx="410220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400480" y="5308560"/>
            <a:ext cx="1398240" cy="522360"/>
            <a:chOff x="2400480" y="5308560"/>
            <a:chExt cx="1398240" cy="522360"/>
          </a:xfrm>
        </p:grpSpPr>
        <p:sp>
          <p:nvSpPr>
            <p:cNvPr id="583" name=""/>
            <p:cNvSpPr/>
            <p:nvPr/>
          </p:nvSpPr>
          <p:spPr>
            <a:xfrm>
              <a:off x="2400480" y="5308560"/>
              <a:ext cx="369720" cy="522360"/>
            </a:xfrm>
            <a:custGeom>
              <a:avLst/>
              <a:gdLst/>
              <a:ahLst/>
              <a:rect l="l" t="t" r="r" b="b"/>
              <a:pathLst>
                <a:path w="233" h="329">
                  <a:moveTo>
                    <a:pt x="0" y="328"/>
                  </a:moveTo>
                  <a:lnTo>
                    <a:pt x="0" y="0"/>
                  </a:lnTo>
                  <a:lnTo>
                    <a:pt x="232" y="0"/>
                  </a:lnTo>
                  <a:lnTo>
                    <a:pt x="232" y="328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29000" y="5549760"/>
              <a:ext cx="369720" cy="281160"/>
            </a:xfrm>
            <a:custGeom>
              <a:avLst/>
              <a:gdLst/>
              <a:ahLst/>
              <a:rect l="l" t="t" r="r" b="b"/>
              <a:pathLst>
                <a:path w="233" h="177">
                  <a:moveTo>
                    <a:pt x="0" y="176"/>
                  </a:moveTo>
                  <a:lnTo>
                    <a:pt x="0" y="0"/>
                  </a:lnTo>
                  <a:lnTo>
                    <a:pt x="232" y="0"/>
                  </a:lnTo>
                  <a:lnTo>
                    <a:pt x="232" y="176"/>
                  </a:lnTo>
                  <a:lnTo>
                    <a:pt x="0" y="17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768760" y="5105520"/>
            <a:ext cx="1398600" cy="725400"/>
            <a:chOff x="2768760" y="5105520"/>
            <a:chExt cx="1398600" cy="725400"/>
          </a:xfrm>
        </p:grpSpPr>
        <p:sp>
          <p:nvSpPr>
            <p:cNvPr id="586" name=""/>
            <p:cNvSpPr/>
            <p:nvPr/>
          </p:nvSpPr>
          <p:spPr>
            <a:xfrm>
              <a:off x="2768760" y="5105520"/>
              <a:ext cx="369720" cy="725400"/>
            </a:xfrm>
            <a:custGeom>
              <a:avLst/>
              <a:gdLst/>
              <a:ahLst/>
              <a:rect l="l" t="t" r="r" b="b"/>
              <a:pathLst>
                <a:path w="233" h="457">
                  <a:moveTo>
                    <a:pt x="0" y="456"/>
                  </a:moveTo>
                  <a:lnTo>
                    <a:pt x="0" y="0"/>
                  </a:lnTo>
                  <a:lnTo>
                    <a:pt x="232" y="0"/>
                  </a:lnTo>
                  <a:lnTo>
                    <a:pt x="232" y="456"/>
                  </a:lnTo>
                  <a:lnTo>
                    <a:pt x="0" y="4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797280" y="5334120"/>
              <a:ext cx="370080" cy="496800"/>
            </a:xfrm>
            <a:custGeom>
              <a:avLst/>
              <a:gdLst/>
              <a:ahLst/>
              <a:rect l="l" t="t" r="r" b="b"/>
              <a:pathLst>
                <a:path w="233" h="313">
                  <a:moveTo>
                    <a:pt x="0" y="312"/>
                  </a:moveTo>
                  <a:lnTo>
                    <a:pt x="0" y="0"/>
                  </a:lnTo>
                  <a:lnTo>
                    <a:pt x="232" y="0"/>
                  </a:lnTo>
                  <a:lnTo>
                    <a:pt x="232" y="312"/>
                  </a:lnTo>
                  <a:lnTo>
                    <a:pt x="0" y="3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432480" y="3467160"/>
            <a:ext cx="2142360" cy="523080"/>
            <a:chOff x="6432480" y="3467160"/>
            <a:chExt cx="2142360" cy="523080"/>
          </a:xfrm>
        </p:grpSpPr>
        <p:sp>
          <p:nvSpPr>
            <p:cNvPr id="589" name=""/>
            <p:cNvSpPr/>
            <p:nvPr/>
          </p:nvSpPr>
          <p:spPr>
            <a:xfrm>
              <a:off x="6445080" y="3524400"/>
              <a:ext cx="114480" cy="11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75840" y="3467160"/>
              <a:ext cx="18136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neva"/>
                </a:rPr>
                <a:t>Pre Inst. (0re. NC 88-89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32480" y="3790800"/>
              <a:ext cx="114480" cy="114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58920" y="3733920"/>
              <a:ext cx="19159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neva"/>
                </a:rPr>
                <a:t>Post Inst. (Ore. NC 88-89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665360" y="1905120"/>
            <a:ext cx="5023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Comprensión  Conceptual de las Leyes de Newton ant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Y después del Curso Inicial de Física sin Matemáticas en Oreg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Buena Instrucción Tradicional (1988-8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282840" y="6219720"/>
            <a:ext cx="21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Leyes de Newt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6200000">
            <a:off x="-838440" y="4103280"/>
            <a:ext cx="498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% Promedio de Comprensión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25520" y="4140360"/>
            <a:ext cx="6188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neva"/>
              </a:rPr>
              <a:t>N=2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55960" y="5884920"/>
            <a:ext cx="245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71880" y="5884920"/>
            <a:ext cx="487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768760" y="4108320"/>
            <a:ext cx="158760" cy="681120"/>
            <a:chOff x="2768760" y="4108320"/>
            <a:chExt cx="158760" cy="681120"/>
          </a:xfrm>
        </p:grpSpPr>
        <p:sp>
          <p:nvSpPr>
            <p:cNvPr id="600" name=""/>
            <p:cNvSpPr/>
            <p:nvPr/>
          </p:nvSpPr>
          <p:spPr>
            <a:xfrm flipH="1">
              <a:off x="2813040" y="4108320"/>
              <a:ext cx="1144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68760" y="4660920"/>
              <a:ext cx="10296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24" y="32"/>
                  </a:moveTo>
                  <a:lnTo>
                    <a:pt x="0" y="0"/>
                  </a:lnTo>
                  <a:lnTo>
                    <a:pt x="16" y="80"/>
                  </a:lnTo>
                  <a:lnTo>
                    <a:pt x="64" y="16"/>
                  </a:lnTo>
                  <a:lnTo>
                    <a:pt x="24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68760" y="4660920"/>
              <a:ext cx="10296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24" y="32"/>
                  </a:moveTo>
                  <a:lnTo>
                    <a:pt x="0" y="0"/>
                  </a:lnTo>
                  <a:lnTo>
                    <a:pt x="16" y="80"/>
                  </a:lnTo>
                  <a:lnTo>
                    <a:pt x="64" y="16"/>
                  </a:lnTo>
                  <a:lnTo>
                    <a:pt x="24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728440" y="3822840"/>
            <a:ext cx="21794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neva"/>
              </a:rPr>
              <a:t>natural language evalu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772080" y="4476600"/>
            <a:ext cx="107280" cy="541440"/>
            <a:chOff x="3772080" y="4476600"/>
            <a:chExt cx="107280" cy="541440"/>
          </a:xfrm>
        </p:grpSpPr>
        <p:sp>
          <p:nvSpPr>
            <p:cNvPr id="605" name=""/>
            <p:cNvSpPr/>
            <p:nvPr/>
          </p:nvSpPr>
          <p:spPr>
            <a:xfrm flipH="1">
              <a:off x="3828600" y="4476600"/>
              <a:ext cx="507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72080" y="4889520"/>
              <a:ext cx="10296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32" y="32"/>
                  </a:moveTo>
                  <a:lnTo>
                    <a:pt x="0" y="0"/>
                  </a:lnTo>
                  <a:lnTo>
                    <a:pt x="24" y="80"/>
                  </a:lnTo>
                  <a:lnTo>
                    <a:pt x="64" y="16"/>
                  </a:lnTo>
                  <a:lnTo>
                    <a:pt x="32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72080" y="4889520"/>
              <a:ext cx="10296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32" y="32"/>
                  </a:moveTo>
                  <a:lnTo>
                    <a:pt x="0" y="0"/>
                  </a:lnTo>
                  <a:lnTo>
                    <a:pt x="24" y="80"/>
                  </a:lnTo>
                  <a:lnTo>
                    <a:pt x="64" y="16"/>
                  </a:lnTo>
                  <a:lnTo>
                    <a:pt x="32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682800" y="4178160"/>
            <a:ext cx="16261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neva"/>
              </a:rPr>
              <a:t>graphical evalu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08920" y="5448240"/>
            <a:ext cx="893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neva"/>
              </a:rPr>
              <a:t>Not aske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48520" y="5435640"/>
            <a:ext cx="893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neva"/>
              </a:rPr>
              <a:t>Not aske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384200" y="1092240"/>
            <a:ext cx="7459920" cy="546084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06840" y="162000"/>
            <a:ext cx="5686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Física Universitaria basada en Algeb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Instrucción Tradi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480" y="19080"/>
            <a:ext cx="8296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enter for Science and Math Teac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ufts Univers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3276720"/>
            <a:ext cx="2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16360" y="2673360"/>
            <a:ext cx="3035160" cy="1206360"/>
            <a:chOff x="3816360" y="2673360"/>
            <a:chExt cx="3035160" cy="1206360"/>
          </a:xfrm>
        </p:grpSpPr>
        <p:sp>
          <p:nvSpPr>
            <p:cNvPr id="83" name=""/>
            <p:cNvSpPr/>
            <p:nvPr/>
          </p:nvSpPr>
          <p:spPr>
            <a:xfrm>
              <a:off x="3816360" y="2673360"/>
              <a:ext cx="3035160" cy="1206360"/>
            </a:xfrm>
            <a:prstGeom prst="roundRect">
              <a:avLst>
                <a:gd name="adj" fmla="val 12495"/>
              </a:avLst>
            </a:prstGeom>
            <a:solidFill>
              <a:srgbClr val="d49fff"/>
            </a:solidFill>
            <a:ln w="12600">
              <a:solidFill>
                <a:srgbClr val="ffffff"/>
              </a:solidFill>
              <a:miter/>
            </a:ln>
            <a:effectLst>
              <a:outerShdw dist="143570" dir="2700000" blurRad="0" rotWithShape="0">
                <a:srgbClr val="8cf4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98440" y="2813040"/>
              <a:ext cx="285840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14ffb"/>
                  </a:solidFill>
                  <a:latin typeface="Times New Roman"/>
                </a:rPr>
                <a:t>Investigación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14ffb"/>
                  </a:solidFill>
                  <a:latin typeface="Times New Roman"/>
                </a:rPr>
                <a:t>En Educació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025880" y="3429000"/>
            <a:ext cx="2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2440" y="4730760"/>
            <a:ext cx="3492720" cy="1206360"/>
            <a:chOff x="82440" y="4730760"/>
            <a:chExt cx="3492720" cy="1206360"/>
          </a:xfrm>
        </p:grpSpPr>
        <p:sp>
          <p:nvSpPr>
            <p:cNvPr id="87" name=""/>
            <p:cNvSpPr/>
            <p:nvPr/>
          </p:nvSpPr>
          <p:spPr>
            <a:xfrm>
              <a:off x="82440" y="4730760"/>
              <a:ext cx="3492720" cy="1206360"/>
            </a:xfrm>
            <a:prstGeom prst="roundRect">
              <a:avLst>
                <a:gd name="adj" fmla="val 12495"/>
              </a:avLst>
            </a:prstGeom>
            <a:solidFill>
              <a:srgbClr val="d49fff"/>
            </a:solidFill>
            <a:ln w="12600">
              <a:solidFill>
                <a:srgbClr val="ffffff"/>
              </a:solidFill>
              <a:miter/>
            </a:ln>
            <a:effectLst>
              <a:outerShdw dist="143570" dir="2700000" blurRad="0" rotWithShape="0">
                <a:srgbClr val="8cf4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800" y="4870440"/>
              <a:ext cx="238140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14ffb"/>
                  </a:solidFill>
                  <a:latin typeface="Times New Roman"/>
                </a:rPr>
                <a:t>Desarrollo 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14ffb"/>
                  </a:solidFill>
                  <a:latin typeface="Times New Roman"/>
                </a:rPr>
                <a:t>Herramienta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14ffb"/>
                  </a:solidFill>
                  <a:latin typeface="Times New Roman"/>
                </a:rPr>
                <a:t>Computaciona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8760" y="1149480"/>
            <a:ext cx="3035160" cy="1130040"/>
            <a:chOff x="158760" y="1149480"/>
            <a:chExt cx="3035160" cy="1130040"/>
          </a:xfrm>
        </p:grpSpPr>
        <p:sp>
          <p:nvSpPr>
            <p:cNvPr id="90" name=""/>
            <p:cNvSpPr/>
            <p:nvPr/>
          </p:nvSpPr>
          <p:spPr>
            <a:xfrm>
              <a:off x="158760" y="1149480"/>
              <a:ext cx="3035160" cy="1130040"/>
            </a:xfrm>
            <a:prstGeom prst="roundRect">
              <a:avLst>
                <a:gd name="adj" fmla="val 12495"/>
              </a:avLst>
            </a:prstGeom>
            <a:solidFill>
              <a:srgbClr val="d49fff"/>
            </a:solidFill>
            <a:ln w="12600">
              <a:solidFill>
                <a:srgbClr val="ffffff"/>
              </a:solidFill>
              <a:miter/>
            </a:ln>
            <a:effectLst>
              <a:outerShdw dist="143570" dir="2700000" blurRad="0" rotWithShape="0">
                <a:srgbClr val="8cf4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3120" y="1212840"/>
              <a:ext cx="23738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14ffb"/>
                  </a:solidFill>
                  <a:latin typeface="Times New Roman"/>
                </a:rPr>
                <a:t>Desarroll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14ffb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114ffb"/>
                  </a:solidFill>
                  <a:latin typeface="Times New Roman"/>
                </a:rPr>
                <a:t>Curricular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7960" y="2514600"/>
            <a:ext cx="2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99000" y="5111640"/>
            <a:ext cx="4475160" cy="1206720"/>
            <a:chOff x="4599000" y="5111640"/>
            <a:chExt cx="4475160" cy="1206720"/>
          </a:xfrm>
        </p:grpSpPr>
        <p:sp>
          <p:nvSpPr>
            <p:cNvPr id="94" name=""/>
            <p:cNvSpPr/>
            <p:nvPr/>
          </p:nvSpPr>
          <p:spPr>
            <a:xfrm>
              <a:off x="4730760" y="5111640"/>
              <a:ext cx="4178160" cy="1206720"/>
            </a:xfrm>
            <a:prstGeom prst="roundRect">
              <a:avLst>
                <a:gd name="adj" fmla="val 10519"/>
              </a:avLst>
            </a:prstGeom>
            <a:solidFill>
              <a:srgbClr val="d49fff"/>
            </a:solidFill>
            <a:ln w="12600">
              <a:solidFill>
                <a:srgbClr val="ffffff"/>
              </a:solidFill>
              <a:miter/>
            </a:ln>
            <a:effectLst>
              <a:outerShdw dist="143570" dir="2700000" blurRad="0" rotWithShape="0">
                <a:srgbClr val="8cf4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99000" y="5327640"/>
              <a:ext cx="447516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14ffb"/>
                  </a:solidFill>
                  <a:latin typeface="Times New Roman"/>
                </a:rPr>
                <a:t>Capacitació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14ffb"/>
                  </a:solidFill>
                  <a:latin typeface="Times New Roman"/>
                </a:rPr>
                <a:t>Docent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806560" y="2514600"/>
            <a:ext cx="2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4160" y="2400480"/>
            <a:ext cx="1371600" cy="838080"/>
          </a:xfrm>
          <a:prstGeom prst="line">
            <a:avLst/>
          </a:prstGeom>
          <a:ln w="76320">
            <a:solidFill>
              <a:srgbClr val="00b7a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29480" y="4000680"/>
            <a:ext cx="380880" cy="1066680"/>
          </a:xfrm>
          <a:prstGeom prst="line">
            <a:avLst/>
          </a:prstGeom>
          <a:ln w="76320">
            <a:solidFill>
              <a:srgbClr val="00b7a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2400480"/>
            <a:ext cx="0" cy="2286000"/>
          </a:xfrm>
          <a:prstGeom prst="line">
            <a:avLst/>
          </a:prstGeom>
          <a:ln w="76320">
            <a:solidFill>
              <a:srgbClr val="00b7a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743200" y="3772080"/>
            <a:ext cx="990720" cy="914400"/>
          </a:xfrm>
          <a:prstGeom prst="line">
            <a:avLst/>
          </a:prstGeom>
          <a:ln w="76320">
            <a:solidFill>
              <a:srgbClr val="00b7a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733920" y="5410080"/>
            <a:ext cx="914400" cy="533520"/>
          </a:xfrm>
          <a:prstGeom prst="line">
            <a:avLst/>
          </a:prstGeom>
          <a:ln w="76320">
            <a:solidFill>
              <a:srgbClr val="00b7a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4ffb"/>
            </a:gs>
            <a:gs pos="100000">
              <a:srgbClr val="87a6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regon después de las 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emostraciones Interactiv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39152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4ffb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07696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Leyes de Newton – Resultados en Oregon usando </a:t>
            </a:r>
            <a:r>
              <a:rPr b="0" i="1" lang="en-US" sz="4000" spc="-1" strike="noStrike">
                <a:solidFill>
                  <a:srgbClr val="8cf4ea"/>
                </a:solidFill>
                <a:latin typeface="Times New Roman"/>
              </a:rPr>
              <a:t>Real Time Physic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200680" y="5940360"/>
            <a:ext cx="4547520" cy="302040"/>
            <a:chOff x="2200680" y="5940360"/>
            <a:chExt cx="4547520" cy="302040"/>
          </a:xfrm>
        </p:grpSpPr>
        <p:sp>
          <p:nvSpPr>
            <p:cNvPr id="620" name=""/>
            <p:cNvSpPr/>
            <p:nvPr/>
          </p:nvSpPr>
          <p:spPr>
            <a:xfrm>
              <a:off x="2200680" y="5940360"/>
              <a:ext cx="1393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1st &amp; 2nd(nl)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324240" y="5940360"/>
              <a:ext cx="1424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1st &amp; 2nd(g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553640" y="5940360"/>
              <a:ext cx="1188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3rd (coll.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43360" y="5940360"/>
              <a:ext cx="1104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3rd (con.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249640" y="5877000"/>
            <a:ext cx="4452840" cy="31680"/>
            <a:chOff x="2249640" y="5877000"/>
            <a:chExt cx="4452840" cy="31680"/>
          </a:xfrm>
        </p:grpSpPr>
        <p:sp>
          <p:nvSpPr>
            <p:cNvPr id="625" name=""/>
            <p:cNvSpPr/>
            <p:nvPr/>
          </p:nvSpPr>
          <p:spPr>
            <a:xfrm flipV="1">
              <a:off x="2249640" y="587700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3362400" y="587700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4476600" y="587700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5589720" y="587700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702480" y="587700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55760" y="5877000"/>
              <a:ext cx="444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720440" y="1857240"/>
            <a:ext cx="519840" cy="4201920"/>
            <a:chOff x="1720440" y="1857240"/>
            <a:chExt cx="519840" cy="4201920"/>
          </a:xfrm>
        </p:grpSpPr>
        <p:sp>
          <p:nvSpPr>
            <p:cNvPr id="632" name=""/>
            <p:cNvSpPr/>
            <p:nvPr/>
          </p:nvSpPr>
          <p:spPr>
            <a:xfrm>
              <a:off x="1949040" y="5742000"/>
              <a:ext cx="2912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0160" y="4959360"/>
              <a:ext cx="401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0160" y="4191120"/>
              <a:ext cx="401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160" y="3408480"/>
              <a:ext cx="401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0160" y="2639880"/>
              <a:ext cx="401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20440" y="1857240"/>
              <a:ext cx="5104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195640" y="1991880"/>
            <a:ext cx="55440" cy="3885120"/>
            <a:chOff x="2195640" y="1991880"/>
            <a:chExt cx="55440" cy="3885120"/>
          </a:xfrm>
        </p:grpSpPr>
        <p:sp>
          <p:nvSpPr>
            <p:cNvPr id="639" name=""/>
            <p:cNvSpPr/>
            <p:nvPr/>
          </p:nvSpPr>
          <p:spPr>
            <a:xfrm flipH="1">
              <a:off x="2195640" y="587700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222280" y="54849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2195640" y="509436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2222280" y="47181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2195640" y="432576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2222280" y="39337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2195640" y="354348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2222280" y="315108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195640" y="277488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2222280" y="238428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2195640" y="199224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249640" y="1991880"/>
              <a:ext cx="0" cy="388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255760" y="1992240"/>
            <a:ext cx="4440240" cy="387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401920" y="5227560"/>
            <a:ext cx="1512720" cy="644760"/>
            <a:chOff x="2401920" y="5227560"/>
            <a:chExt cx="1512720" cy="644760"/>
          </a:xfrm>
        </p:grpSpPr>
        <p:sp>
          <p:nvSpPr>
            <p:cNvPr id="653" name=""/>
            <p:cNvSpPr/>
            <p:nvPr/>
          </p:nvSpPr>
          <p:spPr>
            <a:xfrm>
              <a:off x="2401920" y="5227560"/>
              <a:ext cx="399960" cy="644760"/>
            </a:xfrm>
            <a:custGeom>
              <a:avLst/>
              <a:gdLst/>
              <a:ahLst/>
              <a:rect l="l" t="t" r="r" b="b"/>
              <a:pathLst>
                <a:path w="252" h="406">
                  <a:moveTo>
                    <a:pt x="0" y="405"/>
                  </a:moveTo>
                  <a:lnTo>
                    <a:pt x="0" y="0"/>
                  </a:lnTo>
                  <a:lnTo>
                    <a:pt x="251" y="0"/>
                  </a:lnTo>
                  <a:lnTo>
                    <a:pt x="251" y="405"/>
                  </a:lnTo>
                  <a:lnTo>
                    <a:pt x="0" y="405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14680" y="5526000"/>
              <a:ext cx="399960" cy="346320"/>
            </a:xfrm>
            <a:custGeom>
              <a:avLst/>
              <a:gdLst/>
              <a:ahLst/>
              <a:rect l="l" t="t" r="r" b="b"/>
              <a:pathLst>
                <a:path w="252" h="218">
                  <a:moveTo>
                    <a:pt x="0" y="217"/>
                  </a:moveTo>
                  <a:lnTo>
                    <a:pt x="0" y="0"/>
                  </a:lnTo>
                  <a:lnTo>
                    <a:pt x="251" y="0"/>
                  </a:lnTo>
                  <a:lnTo>
                    <a:pt x="251" y="217"/>
                  </a:lnTo>
                  <a:lnTo>
                    <a:pt x="0" y="217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800440" y="2440080"/>
            <a:ext cx="3738600" cy="3432240"/>
            <a:chOff x="2800440" y="2440080"/>
            <a:chExt cx="3738600" cy="3432240"/>
          </a:xfrm>
        </p:grpSpPr>
        <p:sp>
          <p:nvSpPr>
            <p:cNvPr id="656" name=""/>
            <p:cNvSpPr/>
            <p:nvPr/>
          </p:nvSpPr>
          <p:spPr>
            <a:xfrm>
              <a:off x="2800440" y="2752560"/>
              <a:ext cx="399960" cy="3119760"/>
            </a:xfrm>
            <a:custGeom>
              <a:avLst/>
              <a:gdLst/>
              <a:ahLst/>
              <a:rect l="l" t="t" r="r" b="b"/>
              <a:pathLst>
                <a:path w="252" h="1965">
                  <a:moveTo>
                    <a:pt x="0" y="1964"/>
                  </a:moveTo>
                  <a:lnTo>
                    <a:pt x="0" y="0"/>
                  </a:lnTo>
                  <a:lnTo>
                    <a:pt x="251" y="0"/>
                  </a:lnTo>
                  <a:lnTo>
                    <a:pt x="251" y="1964"/>
                  </a:lnTo>
                  <a:lnTo>
                    <a:pt x="0" y="1964"/>
                  </a:lnTo>
                </a:path>
              </a:pathLst>
            </a:custGeom>
            <a:solidFill>
              <a:srgbClr val="dd080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13200" y="2768760"/>
              <a:ext cx="399960" cy="3103560"/>
            </a:xfrm>
            <a:custGeom>
              <a:avLst/>
              <a:gdLst/>
              <a:ahLst/>
              <a:rect l="l" t="t" r="r" b="b"/>
              <a:pathLst>
                <a:path w="252" h="1955">
                  <a:moveTo>
                    <a:pt x="0" y="1954"/>
                  </a:moveTo>
                  <a:lnTo>
                    <a:pt x="0" y="0"/>
                  </a:lnTo>
                  <a:lnTo>
                    <a:pt x="251" y="0"/>
                  </a:lnTo>
                  <a:lnTo>
                    <a:pt x="251" y="1954"/>
                  </a:lnTo>
                  <a:lnTo>
                    <a:pt x="0" y="1954"/>
                  </a:lnTo>
                </a:path>
              </a:pathLst>
            </a:custGeom>
            <a:solidFill>
              <a:srgbClr val="dd080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25960" y="2440080"/>
              <a:ext cx="399960" cy="3432240"/>
            </a:xfrm>
            <a:custGeom>
              <a:avLst/>
              <a:gdLst/>
              <a:ahLst/>
              <a:rect l="l" t="t" r="r" b="b"/>
              <a:pathLst>
                <a:path w="252" h="2162">
                  <a:moveTo>
                    <a:pt x="0" y="2161"/>
                  </a:moveTo>
                  <a:lnTo>
                    <a:pt x="0" y="0"/>
                  </a:lnTo>
                  <a:lnTo>
                    <a:pt x="251" y="0"/>
                  </a:lnTo>
                  <a:lnTo>
                    <a:pt x="251" y="2161"/>
                  </a:lnTo>
                  <a:lnTo>
                    <a:pt x="0" y="2161"/>
                  </a:lnTo>
                </a:path>
              </a:pathLst>
            </a:custGeom>
            <a:solidFill>
              <a:srgbClr val="dd080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38720" y="3222720"/>
              <a:ext cx="400320" cy="2649600"/>
            </a:xfrm>
            <a:custGeom>
              <a:avLst/>
              <a:gdLst/>
              <a:ahLst/>
              <a:rect l="l" t="t" r="r" b="b"/>
              <a:pathLst>
                <a:path w="252" h="1669">
                  <a:moveTo>
                    <a:pt x="0" y="1668"/>
                  </a:moveTo>
                  <a:lnTo>
                    <a:pt x="0" y="0"/>
                  </a:lnTo>
                  <a:lnTo>
                    <a:pt x="251" y="0"/>
                  </a:lnTo>
                  <a:lnTo>
                    <a:pt x="251" y="1668"/>
                  </a:lnTo>
                  <a:lnTo>
                    <a:pt x="0" y="1668"/>
                  </a:lnTo>
                </a:path>
              </a:pathLst>
            </a:custGeom>
            <a:solidFill>
              <a:srgbClr val="dd080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6762600" y="2808360"/>
            <a:ext cx="2524320" cy="938160"/>
            <a:chOff x="6762600" y="2808360"/>
            <a:chExt cx="2524320" cy="938160"/>
          </a:xfrm>
        </p:grpSpPr>
        <p:sp>
          <p:nvSpPr>
            <p:cNvPr id="661" name=""/>
            <p:cNvSpPr/>
            <p:nvPr/>
          </p:nvSpPr>
          <p:spPr>
            <a:xfrm>
              <a:off x="6762600" y="2868480"/>
              <a:ext cx="127080" cy="14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35840" y="2808360"/>
              <a:ext cx="2251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Pre Inst. (0re. NC 88-89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62600" y="3527280"/>
              <a:ext cx="113040" cy="131760"/>
            </a:xfrm>
            <a:prstGeom prst="rect">
              <a:avLst/>
            </a:prstGeom>
            <a:solidFill>
              <a:srgbClr val="dd08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41880" y="3475080"/>
              <a:ext cx="197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Oregon Post (RealTim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958320" y="1090440"/>
            <a:ext cx="7319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neva"/>
              </a:rPr>
              <a:t>Comprensión Conceptual de las Leyes de Newton antes  (1988-89)y despué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neva"/>
              </a:rPr>
              <a:t>(1991-4) de Taller de Física sin Cálculo </a:t>
            </a:r>
            <a:r>
              <a:rPr b="1" i="1" lang="en-US" sz="1500" spc="-1" strike="noStrike">
                <a:solidFill>
                  <a:srgbClr val="000000"/>
                </a:solidFill>
                <a:latin typeface="Geneva"/>
              </a:rPr>
              <a:t>Real Time Physics</a:t>
            </a:r>
            <a:r>
              <a:rPr b="1" lang="en-US" sz="15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368160" y="6392880"/>
            <a:ext cx="20286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neva"/>
              </a:rPr>
              <a:t>Leyes de Newt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-302040" y="3534840"/>
            <a:ext cx="3621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Average % of Students' Understan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89200" y="3106800"/>
            <a:ext cx="73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N=23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95560" y="5915160"/>
            <a:ext cx="488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095720" y="5915160"/>
            <a:ext cx="569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65360" y="2227320"/>
            <a:ext cx="112680" cy="323640"/>
            <a:chOff x="2565360" y="2227320"/>
            <a:chExt cx="112680" cy="323640"/>
          </a:xfrm>
        </p:grpSpPr>
        <p:sp>
          <p:nvSpPr>
            <p:cNvPr id="672" name=""/>
            <p:cNvSpPr/>
            <p:nvPr/>
          </p:nvSpPr>
          <p:spPr>
            <a:xfrm>
              <a:off x="2627280" y="222732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65360" y="2408400"/>
              <a:ext cx="112680" cy="14256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35" y="30"/>
                  </a:moveTo>
                  <a:lnTo>
                    <a:pt x="0" y="0"/>
                  </a:lnTo>
                  <a:lnTo>
                    <a:pt x="35" y="89"/>
                  </a:lnTo>
                  <a:lnTo>
                    <a:pt x="70" y="0"/>
                  </a:lnTo>
                  <a:lnTo>
                    <a:pt x="3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65360" y="2408400"/>
              <a:ext cx="112680" cy="14256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35" y="30"/>
                  </a:moveTo>
                  <a:lnTo>
                    <a:pt x="0" y="0"/>
                  </a:lnTo>
                  <a:lnTo>
                    <a:pt x="35" y="89"/>
                  </a:lnTo>
                  <a:lnTo>
                    <a:pt x="70" y="0"/>
                  </a:lnTo>
                  <a:lnTo>
                    <a:pt x="35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059560" y="1962000"/>
            <a:ext cx="3042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Evaluación con lenguaje natu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760920" y="2462040"/>
            <a:ext cx="125280" cy="292320"/>
            <a:chOff x="3760920" y="2462040"/>
            <a:chExt cx="125280" cy="292320"/>
          </a:xfrm>
        </p:grpSpPr>
        <p:sp>
          <p:nvSpPr>
            <p:cNvPr id="677" name=""/>
            <p:cNvSpPr/>
            <p:nvPr/>
          </p:nvSpPr>
          <p:spPr>
            <a:xfrm flipH="1">
              <a:off x="3822480" y="2462040"/>
              <a:ext cx="140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60920" y="2612880"/>
              <a:ext cx="125280" cy="14148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35" y="29"/>
                  </a:moveTo>
                  <a:lnTo>
                    <a:pt x="0" y="0"/>
                  </a:lnTo>
                  <a:lnTo>
                    <a:pt x="35" y="88"/>
                  </a:lnTo>
                  <a:lnTo>
                    <a:pt x="78" y="0"/>
                  </a:lnTo>
                  <a:lnTo>
                    <a:pt x="3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60920" y="2612880"/>
              <a:ext cx="125280" cy="14148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35" y="29"/>
                  </a:moveTo>
                  <a:lnTo>
                    <a:pt x="0" y="0"/>
                  </a:lnTo>
                  <a:lnTo>
                    <a:pt x="35" y="88"/>
                  </a:lnTo>
                  <a:lnTo>
                    <a:pt x="78" y="0"/>
                  </a:lnTo>
                  <a:lnTo>
                    <a:pt x="35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3388680" y="2166840"/>
            <a:ext cx="228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Evaluación con Gráf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74800" y="3795840"/>
            <a:ext cx="73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N=6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96960" y="5489640"/>
            <a:ext cx="827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neva"/>
              </a:rPr>
              <a:t>not aske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95680" y="5504040"/>
            <a:ext cx="827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neva"/>
              </a:rPr>
              <a:t>not aske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4ffb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96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Resultados Resumidos de las Demostraciones Interactivas en Tuft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699280" y="5878440"/>
            <a:ext cx="3959280" cy="271440"/>
            <a:chOff x="2699280" y="5878440"/>
            <a:chExt cx="3959280" cy="271440"/>
          </a:xfrm>
        </p:grpSpPr>
        <p:sp>
          <p:nvSpPr>
            <p:cNvPr id="686" name=""/>
            <p:cNvSpPr/>
            <p:nvPr/>
          </p:nvSpPr>
          <p:spPr>
            <a:xfrm>
              <a:off x="2699280" y="5878440"/>
              <a:ext cx="1138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1st &amp; 2nd(nl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05480" y="5878440"/>
              <a:ext cx="1205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1st &amp; 2nd (g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95920" y="5878440"/>
              <a:ext cx="966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3rd (coll.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65400" y="5878440"/>
              <a:ext cx="893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3rd (con.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705040" y="5819400"/>
            <a:ext cx="3962520" cy="28440"/>
            <a:chOff x="2705040" y="5819400"/>
            <a:chExt cx="3962520" cy="28440"/>
          </a:xfrm>
        </p:grpSpPr>
        <p:sp>
          <p:nvSpPr>
            <p:cNvPr id="691" name=""/>
            <p:cNvSpPr/>
            <p:nvPr/>
          </p:nvSpPr>
          <p:spPr>
            <a:xfrm flipV="1">
              <a:off x="2705040" y="5819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3695760" y="5819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686480" y="5819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676840" y="5819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6667560" y="5819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11520" y="5819760"/>
              <a:ext cx="394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210400" y="2314440"/>
            <a:ext cx="493560" cy="3674160"/>
            <a:chOff x="2210400" y="2314440"/>
            <a:chExt cx="493560" cy="3674160"/>
          </a:xfrm>
        </p:grpSpPr>
        <p:sp>
          <p:nvSpPr>
            <p:cNvPr id="698" name=""/>
            <p:cNvSpPr/>
            <p:nvPr/>
          </p:nvSpPr>
          <p:spPr>
            <a:xfrm>
              <a:off x="2420280" y="56865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02560" y="50115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02560" y="43369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02560" y="36622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2560" y="29894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10400" y="2314440"/>
              <a:ext cx="48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653920" y="2448000"/>
            <a:ext cx="51120" cy="3371760"/>
            <a:chOff x="2653920" y="2448000"/>
            <a:chExt cx="51120" cy="3371760"/>
          </a:xfrm>
        </p:grpSpPr>
        <p:sp>
          <p:nvSpPr>
            <p:cNvPr id="705" name=""/>
            <p:cNvSpPr/>
            <p:nvPr/>
          </p:nvSpPr>
          <p:spPr>
            <a:xfrm flipH="1">
              <a:off x="2653920" y="5819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2679840" y="54817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653920" y="51451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679840" y="48085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2653920" y="44704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2679840" y="4133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653920" y="37958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679840" y="34592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653920" y="31226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2679840" y="27846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2653920" y="24480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705040" y="2448000"/>
              <a:ext cx="0" cy="33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711520" y="2448000"/>
            <a:ext cx="3949560" cy="336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844720" y="5251320"/>
            <a:ext cx="3328920" cy="563760"/>
            <a:chOff x="2844720" y="5251320"/>
            <a:chExt cx="3328920" cy="563760"/>
          </a:xfrm>
        </p:grpSpPr>
        <p:sp>
          <p:nvSpPr>
            <p:cNvPr id="719" name=""/>
            <p:cNvSpPr/>
            <p:nvPr/>
          </p:nvSpPr>
          <p:spPr>
            <a:xfrm>
              <a:off x="2844720" y="5251320"/>
              <a:ext cx="357120" cy="563760"/>
            </a:xfrm>
            <a:custGeom>
              <a:avLst/>
              <a:gdLst/>
              <a:ahLst/>
              <a:rect l="l" t="t" r="r" b="b"/>
              <a:pathLst>
                <a:path w="225" h="355">
                  <a:moveTo>
                    <a:pt x="0" y="354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354"/>
                  </a:lnTo>
                  <a:lnTo>
                    <a:pt x="0" y="35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35440" y="5532480"/>
              <a:ext cx="357120" cy="282600"/>
            </a:xfrm>
            <a:custGeom>
              <a:avLst/>
              <a:gdLst/>
              <a:ahLst/>
              <a:rect l="l" t="t" r="r" b="b"/>
              <a:pathLst>
                <a:path w="225" h="178">
                  <a:moveTo>
                    <a:pt x="0" y="177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177"/>
                  </a:lnTo>
                  <a:lnTo>
                    <a:pt x="0" y="177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26160" y="5602320"/>
              <a:ext cx="357120" cy="212760"/>
            </a:xfrm>
            <a:custGeom>
              <a:avLst/>
              <a:gdLst/>
              <a:ahLst/>
              <a:rect l="l" t="t" r="r" b="b"/>
              <a:pathLst>
                <a:path w="225" h="134">
                  <a:moveTo>
                    <a:pt x="0" y="133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133"/>
                  </a:lnTo>
                  <a:lnTo>
                    <a:pt x="0" y="133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816520" y="5743440"/>
              <a:ext cx="357120" cy="71640"/>
            </a:xfrm>
            <a:custGeom>
              <a:avLst/>
              <a:gdLst/>
              <a:ahLst/>
              <a:rect l="l" t="t" r="r" b="b"/>
              <a:pathLst>
                <a:path w="225" h="45">
                  <a:moveTo>
                    <a:pt x="0" y="44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44"/>
                  </a:lnTo>
                  <a:lnTo>
                    <a:pt x="0" y="44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3200400" y="2468520"/>
            <a:ext cx="3328920" cy="3346560"/>
            <a:chOff x="3200400" y="2468520"/>
            <a:chExt cx="3328920" cy="3346560"/>
          </a:xfrm>
        </p:grpSpPr>
        <p:sp>
          <p:nvSpPr>
            <p:cNvPr id="724" name=""/>
            <p:cNvSpPr/>
            <p:nvPr/>
          </p:nvSpPr>
          <p:spPr>
            <a:xfrm>
              <a:off x="3200400" y="2610000"/>
              <a:ext cx="357120" cy="3205080"/>
            </a:xfrm>
            <a:custGeom>
              <a:avLst/>
              <a:gdLst/>
              <a:ahLst/>
              <a:rect l="l" t="t" r="r" b="b"/>
              <a:pathLst>
                <a:path w="225" h="2019">
                  <a:moveTo>
                    <a:pt x="0" y="2018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2018"/>
                  </a:lnTo>
                  <a:lnTo>
                    <a:pt x="0" y="201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91120" y="2708280"/>
              <a:ext cx="357120" cy="3106800"/>
            </a:xfrm>
            <a:custGeom>
              <a:avLst/>
              <a:gdLst/>
              <a:ahLst/>
              <a:rect l="l" t="t" r="r" b="b"/>
              <a:pathLst>
                <a:path w="225" h="1957">
                  <a:moveTo>
                    <a:pt x="0" y="1956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1956"/>
                  </a:lnTo>
                  <a:lnTo>
                    <a:pt x="0" y="1956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81480" y="2468520"/>
              <a:ext cx="357480" cy="3346560"/>
            </a:xfrm>
            <a:custGeom>
              <a:avLst/>
              <a:gdLst/>
              <a:ahLst/>
              <a:rect l="l" t="t" r="r" b="b"/>
              <a:pathLst>
                <a:path w="225" h="2108">
                  <a:moveTo>
                    <a:pt x="0" y="2107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2107"/>
                  </a:lnTo>
                  <a:lnTo>
                    <a:pt x="0" y="210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72200" y="2749680"/>
              <a:ext cx="357120" cy="3065400"/>
            </a:xfrm>
            <a:custGeom>
              <a:avLst/>
              <a:gdLst/>
              <a:ahLst/>
              <a:rect l="l" t="t" r="r" b="b"/>
              <a:pathLst>
                <a:path w="225" h="1931">
                  <a:moveTo>
                    <a:pt x="0" y="1930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1930"/>
                  </a:lnTo>
                  <a:lnTo>
                    <a:pt x="0" y="193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6826320" y="2630520"/>
            <a:ext cx="114120" cy="12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56360" y="2576520"/>
            <a:ext cx="179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Pre Inst. F94 (Phys. 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26320" y="2938320"/>
            <a:ext cx="114120" cy="1303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049880" y="2886120"/>
            <a:ext cx="1446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Final F94 (Phy. 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57480" y="1790640"/>
            <a:ext cx="77101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eneva"/>
              </a:rPr>
              <a:t>Conceptual Understanding of Newton's Laws after Tufts Intro Non-Calculus Physics (P1 F94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41280" y="2016000"/>
            <a:ext cx="7621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eneva"/>
              </a:rPr>
              <a:t>Traditional Instruction except for TST Interactive Lecture Demo's &amp; 2 MBL Kinematics Lab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95040" y="6280200"/>
            <a:ext cx="1912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Leyes de Newt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6200000">
            <a:off x="104760" y="4015080"/>
            <a:ext cx="409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Average % of Students' Understan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4040" y="3616200"/>
            <a:ext cx="65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N=13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75000" y="5883120"/>
            <a:ext cx="25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65720" y="5883120"/>
            <a:ext cx="35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54800" y="6257880"/>
            <a:ext cx="262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Evaluación con lenguaje natur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4520" y="6173640"/>
            <a:ext cx="196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Evaluación con gráfic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343240" y="6080040"/>
            <a:ext cx="325440" cy="252360"/>
            <a:chOff x="2343240" y="6080040"/>
            <a:chExt cx="325440" cy="252360"/>
          </a:xfrm>
        </p:grpSpPr>
        <p:sp>
          <p:nvSpPr>
            <p:cNvPr id="742" name=""/>
            <p:cNvSpPr/>
            <p:nvPr/>
          </p:nvSpPr>
          <p:spPr>
            <a:xfrm flipV="1">
              <a:off x="2343240" y="6122880"/>
              <a:ext cx="26820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40160" y="6080040"/>
              <a:ext cx="128520" cy="11448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40" y="27"/>
                  </a:moveTo>
                  <a:lnTo>
                    <a:pt x="40" y="71"/>
                  </a:lnTo>
                  <a:lnTo>
                    <a:pt x="80" y="0"/>
                  </a:lnTo>
                  <a:lnTo>
                    <a:pt x="0" y="9"/>
                  </a:lnTo>
                  <a:lnTo>
                    <a:pt x="4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40160" y="6080040"/>
              <a:ext cx="128520" cy="11448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40" y="27"/>
                  </a:moveTo>
                  <a:lnTo>
                    <a:pt x="40" y="71"/>
                  </a:lnTo>
                  <a:lnTo>
                    <a:pt x="80" y="0"/>
                  </a:lnTo>
                  <a:lnTo>
                    <a:pt x="0" y="9"/>
                  </a:lnTo>
                  <a:lnTo>
                    <a:pt x="4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4749840" y="6094440"/>
            <a:ext cx="926640" cy="203040"/>
            <a:chOff x="4749840" y="6094440"/>
            <a:chExt cx="926640" cy="203040"/>
          </a:xfrm>
        </p:grpSpPr>
        <p:sp>
          <p:nvSpPr>
            <p:cNvPr id="746" name=""/>
            <p:cNvSpPr/>
            <p:nvPr/>
          </p:nvSpPr>
          <p:spPr>
            <a:xfrm flipH="1" flipV="1">
              <a:off x="4825800" y="6156360"/>
              <a:ext cx="85068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49840" y="6094440"/>
              <a:ext cx="128520" cy="11412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48" y="35"/>
                  </a:moveTo>
                  <a:lnTo>
                    <a:pt x="80" y="0"/>
                  </a:lnTo>
                  <a:lnTo>
                    <a:pt x="0" y="26"/>
                  </a:lnTo>
                  <a:lnTo>
                    <a:pt x="64" y="71"/>
                  </a:lnTo>
                  <a:lnTo>
                    <a:pt x="48" y="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49840" y="6094440"/>
              <a:ext cx="128520" cy="11412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48" y="35"/>
                  </a:moveTo>
                  <a:lnTo>
                    <a:pt x="80" y="0"/>
                  </a:lnTo>
                  <a:lnTo>
                    <a:pt x="0" y="26"/>
                  </a:lnTo>
                  <a:lnTo>
                    <a:pt x="64" y="71"/>
                  </a:lnTo>
                  <a:lnTo>
                    <a:pt x="48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4ffb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Compración de Resultados entre Alumnos y Docent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419200" y="5934240"/>
            <a:ext cx="4413960" cy="302040"/>
            <a:chOff x="2419200" y="5934240"/>
            <a:chExt cx="4413960" cy="302040"/>
          </a:xfrm>
        </p:grpSpPr>
        <p:sp>
          <p:nvSpPr>
            <p:cNvPr id="751" name=""/>
            <p:cNvSpPr/>
            <p:nvPr/>
          </p:nvSpPr>
          <p:spPr>
            <a:xfrm>
              <a:off x="2419200" y="5934240"/>
              <a:ext cx="1301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1st &amp; 2nd(nl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90920" y="5934240"/>
              <a:ext cx="1424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1st &amp; 2nd(g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52280" y="5934240"/>
              <a:ext cx="1188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3rd (coll.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82600" y="5934240"/>
              <a:ext cx="1150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3rd (con.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664000" y="5866920"/>
            <a:ext cx="4181400" cy="32040"/>
            <a:chOff x="2664000" y="5866920"/>
            <a:chExt cx="4181400" cy="32040"/>
          </a:xfrm>
        </p:grpSpPr>
        <p:sp>
          <p:nvSpPr>
            <p:cNvPr id="756" name=""/>
            <p:cNvSpPr/>
            <p:nvPr/>
          </p:nvSpPr>
          <p:spPr>
            <a:xfrm flipV="1">
              <a:off x="2664000" y="5866920"/>
              <a:ext cx="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3708360" y="5866920"/>
              <a:ext cx="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754520" y="5866920"/>
              <a:ext cx="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799240" y="5866920"/>
              <a:ext cx="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845400" y="5866920"/>
              <a:ext cx="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70120" y="5867280"/>
              <a:ext cx="417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133000" y="1968480"/>
            <a:ext cx="520200" cy="4082760"/>
            <a:chOff x="2133000" y="1968480"/>
            <a:chExt cx="520200" cy="4082760"/>
          </a:xfrm>
        </p:grpSpPr>
        <p:sp>
          <p:nvSpPr>
            <p:cNvPr id="763" name=""/>
            <p:cNvSpPr/>
            <p:nvPr/>
          </p:nvSpPr>
          <p:spPr>
            <a:xfrm>
              <a:off x="2361960" y="5734080"/>
              <a:ext cx="2912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33080" y="4975200"/>
              <a:ext cx="401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33080" y="4230720"/>
              <a:ext cx="401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33080" y="3471840"/>
              <a:ext cx="401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33080" y="2727360"/>
              <a:ext cx="401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33000" y="1968480"/>
              <a:ext cx="5104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607840" y="2101680"/>
            <a:ext cx="57600" cy="3765600"/>
            <a:chOff x="2607840" y="2101680"/>
            <a:chExt cx="57600" cy="3765600"/>
          </a:xfrm>
        </p:grpSpPr>
        <p:sp>
          <p:nvSpPr>
            <p:cNvPr id="770" name=""/>
            <p:cNvSpPr/>
            <p:nvPr/>
          </p:nvSpPr>
          <p:spPr>
            <a:xfrm flipH="1">
              <a:off x="2607840" y="586728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635200" y="548784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2607840" y="510840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2635200" y="47451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607840" y="436392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635200" y="398448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607840" y="360504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35200" y="32259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607840" y="286236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635200" y="24811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2607840" y="210168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664000" y="2101680"/>
              <a:ext cx="0" cy="376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2670120" y="2101680"/>
            <a:ext cx="4168800" cy="375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800440" y="5243400"/>
            <a:ext cx="3386160" cy="619200"/>
            <a:chOff x="2800440" y="5243400"/>
            <a:chExt cx="3386160" cy="619200"/>
          </a:xfrm>
        </p:grpSpPr>
        <p:sp>
          <p:nvSpPr>
            <p:cNvPr id="784" name=""/>
            <p:cNvSpPr/>
            <p:nvPr/>
          </p:nvSpPr>
          <p:spPr>
            <a:xfrm>
              <a:off x="2800440" y="5243400"/>
              <a:ext cx="249120" cy="619200"/>
            </a:xfrm>
            <a:custGeom>
              <a:avLst/>
              <a:gdLst/>
              <a:ahLst/>
              <a:rect l="l" t="t" r="r" b="b"/>
              <a:pathLst>
                <a:path w="157" h="390">
                  <a:moveTo>
                    <a:pt x="0" y="38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389"/>
                  </a:lnTo>
                  <a:lnTo>
                    <a:pt x="0" y="389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46600" y="5545080"/>
              <a:ext cx="249120" cy="317520"/>
            </a:xfrm>
            <a:custGeom>
              <a:avLst/>
              <a:gdLst/>
              <a:ahLst/>
              <a:rect l="l" t="t" r="r" b="b"/>
              <a:pathLst>
                <a:path w="157" h="200">
                  <a:moveTo>
                    <a:pt x="0" y="19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99"/>
                  </a:lnTo>
                  <a:lnTo>
                    <a:pt x="0" y="199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90960" y="5624640"/>
              <a:ext cx="249480" cy="237960"/>
            </a:xfrm>
            <a:custGeom>
              <a:avLst/>
              <a:gdLst/>
              <a:ahLst/>
              <a:rect l="l" t="t" r="r" b="b"/>
              <a:pathLst>
                <a:path w="157" h="150">
                  <a:moveTo>
                    <a:pt x="0" y="14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49"/>
                  </a:lnTo>
                  <a:lnTo>
                    <a:pt x="0" y="149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37120" y="5781600"/>
              <a:ext cx="249480" cy="81000"/>
            </a:xfrm>
            <a:custGeom>
              <a:avLst/>
              <a:gdLst/>
              <a:ahLst/>
              <a:rect l="l" t="t" r="r" b="b"/>
              <a:pathLst>
                <a:path w="157" h="51">
                  <a:moveTo>
                    <a:pt x="0" y="50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5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048120" y="2127240"/>
            <a:ext cx="3386160" cy="3735360"/>
            <a:chOff x="3048120" y="2127240"/>
            <a:chExt cx="3386160" cy="3735360"/>
          </a:xfrm>
        </p:grpSpPr>
        <p:sp>
          <p:nvSpPr>
            <p:cNvPr id="789" name=""/>
            <p:cNvSpPr/>
            <p:nvPr/>
          </p:nvSpPr>
          <p:spPr>
            <a:xfrm>
              <a:off x="3048120" y="2286000"/>
              <a:ext cx="249120" cy="3576600"/>
            </a:xfrm>
            <a:custGeom>
              <a:avLst/>
              <a:gdLst/>
              <a:ahLst/>
              <a:rect l="l" t="t" r="r" b="b"/>
              <a:pathLst>
                <a:path w="157" h="2253">
                  <a:moveTo>
                    <a:pt x="0" y="2252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2252"/>
                  </a:lnTo>
                  <a:lnTo>
                    <a:pt x="0" y="22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94280" y="2397240"/>
              <a:ext cx="249120" cy="3465360"/>
            </a:xfrm>
            <a:custGeom>
              <a:avLst/>
              <a:gdLst/>
              <a:ahLst/>
              <a:rect l="l" t="t" r="r" b="b"/>
              <a:pathLst>
                <a:path w="157" h="2183">
                  <a:moveTo>
                    <a:pt x="0" y="2182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2182"/>
                  </a:lnTo>
                  <a:lnTo>
                    <a:pt x="0" y="218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38640" y="2127240"/>
              <a:ext cx="249480" cy="3735360"/>
            </a:xfrm>
            <a:custGeom>
              <a:avLst/>
              <a:gdLst/>
              <a:ahLst/>
              <a:rect l="l" t="t" r="r" b="b"/>
              <a:pathLst>
                <a:path w="157" h="2353">
                  <a:moveTo>
                    <a:pt x="0" y="2352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2352"/>
                  </a:lnTo>
                  <a:lnTo>
                    <a:pt x="0" y="23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84800" y="2428920"/>
              <a:ext cx="249480" cy="3433680"/>
            </a:xfrm>
            <a:custGeom>
              <a:avLst/>
              <a:gdLst/>
              <a:ahLst/>
              <a:rect l="l" t="t" r="r" b="b"/>
              <a:pathLst>
                <a:path w="157" h="2163">
                  <a:moveTo>
                    <a:pt x="0" y="2162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2162"/>
                  </a:lnTo>
                  <a:lnTo>
                    <a:pt x="0" y="21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295800" y="2428920"/>
            <a:ext cx="3386160" cy="3433680"/>
            <a:chOff x="3295800" y="2428920"/>
            <a:chExt cx="3386160" cy="3433680"/>
          </a:xfrm>
        </p:grpSpPr>
        <p:sp>
          <p:nvSpPr>
            <p:cNvPr id="794" name=""/>
            <p:cNvSpPr/>
            <p:nvPr/>
          </p:nvSpPr>
          <p:spPr>
            <a:xfrm>
              <a:off x="3295800" y="2475000"/>
              <a:ext cx="249120" cy="3387600"/>
            </a:xfrm>
            <a:custGeom>
              <a:avLst/>
              <a:gdLst/>
              <a:ahLst/>
              <a:rect l="l" t="t" r="r" b="b"/>
              <a:pathLst>
                <a:path w="157" h="2134">
                  <a:moveTo>
                    <a:pt x="0" y="2133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2133"/>
                  </a:lnTo>
                  <a:lnTo>
                    <a:pt x="0" y="213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41960" y="2776680"/>
              <a:ext cx="249120" cy="3085920"/>
            </a:xfrm>
            <a:custGeom>
              <a:avLst/>
              <a:gdLst/>
              <a:ahLst/>
              <a:rect l="l" t="t" r="r" b="b"/>
              <a:pathLst>
                <a:path w="157" h="1944">
                  <a:moveTo>
                    <a:pt x="0" y="1943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943"/>
                  </a:lnTo>
                  <a:lnTo>
                    <a:pt x="0" y="1943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86320" y="2428920"/>
              <a:ext cx="249480" cy="3433680"/>
            </a:xfrm>
            <a:custGeom>
              <a:avLst/>
              <a:gdLst/>
              <a:ahLst/>
              <a:rect l="l" t="t" r="r" b="b"/>
              <a:pathLst>
                <a:path w="157" h="2163">
                  <a:moveTo>
                    <a:pt x="0" y="2162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2162"/>
                  </a:lnTo>
                  <a:lnTo>
                    <a:pt x="0" y="2162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32480" y="2917800"/>
              <a:ext cx="249480" cy="2944800"/>
            </a:xfrm>
            <a:custGeom>
              <a:avLst/>
              <a:gdLst/>
              <a:ahLst/>
              <a:rect l="l" t="t" r="r" b="b"/>
              <a:pathLst>
                <a:path w="157" h="1855">
                  <a:moveTo>
                    <a:pt x="0" y="1854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854"/>
                  </a:lnTo>
                  <a:lnTo>
                    <a:pt x="0" y="1854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7002360" y="2054160"/>
            <a:ext cx="125640" cy="1494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201440" y="1995480"/>
            <a:ext cx="203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 Inst. F94 (Phys.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02360" y="2403360"/>
            <a:ext cx="125640" cy="147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251840" y="2343240"/>
            <a:ext cx="1658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Final F94 (Phy.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975360" y="3209760"/>
            <a:ext cx="125640" cy="147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912360" y="3151080"/>
            <a:ext cx="2036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chers D'son SS 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373040" y="1219320"/>
            <a:ext cx="77709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ceptual Understanding of Newton's Laws aft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ufts Introductory Non-Calculus Physics (P1 F94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148760" y="1676520"/>
            <a:ext cx="7822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raditional Instruction except for TST Interactive Lecture Demo's &amp; 1 MBL Kinematic Lab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681360" y="6394320"/>
            <a:ext cx="21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Leyes de Newt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6200000">
            <a:off x="151560" y="3617640"/>
            <a:ext cx="3621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Average % of Students' Understan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55600" y="2604960"/>
            <a:ext cx="73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N=1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414680" y="5938920"/>
            <a:ext cx="57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08000" y="6361200"/>
            <a:ext cx="272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natural language eval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33360" y="6267600"/>
            <a:ext cx="202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graphical eval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284560" y="6161040"/>
            <a:ext cx="339480" cy="285840"/>
            <a:chOff x="2284560" y="6161040"/>
            <a:chExt cx="339480" cy="285840"/>
          </a:xfrm>
        </p:grpSpPr>
        <p:sp>
          <p:nvSpPr>
            <p:cNvPr id="813" name=""/>
            <p:cNvSpPr/>
            <p:nvPr/>
          </p:nvSpPr>
          <p:spPr>
            <a:xfrm flipV="1">
              <a:off x="2284560" y="6208560"/>
              <a:ext cx="27756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484360" y="6161040"/>
              <a:ext cx="139680" cy="14436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43" y="30"/>
                  </a:moveTo>
                  <a:lnTo>
                    <a:pt x="43" y="90"/>
                  </a:lnTo>
                  <a:lnTo>
                    <a:pt x="87" y="0"/>
                  </a:lnTo>
                  <a:lnTo>
                    <a:pt x="0" y="20"/>
                  </a:lnTo>
                  <a:lnTo>
                    <a:pt x="43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84360" y="6161040"/>
              <a:ext cx="139680" cy="14436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43" y="30"/>
                  </a:moveTo>
                  <a:lnTo>
                    <a:pt x="43" y="90"/>
                  </a:lnTo>
                  <a:lnTo>
                    <a:pt x="87" y="0"/>
                  </a:lnTo>
                  <a:lnTo>
                    <a:pt x="0" y="20"/>
                  </a:lnTo>
                  <a:lnTo>
                    <a:pt x="43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4808520" y="6176880"/>
            <a:ext cx="979560" cy="228240"/>
            <a:chOff x="4808520" y="6176880"/>
            <a:chExt cx="979560" cy="228240"/>
          </a:xfrm>
        </p:grpSpPr>
        <p:sp>
          <p:nvSpPr>
            <p:cNvPr id="817" name=""/>
            <p:cNvSpPr/>
            <p:nvPr/>
          </p:nvSpPr>
          <p:spPr>
            <a:xfrm flipH="1" flipV="1">
              <a:off x="4890960" y="6246360"/>
              <a:ext cx="89712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08520" y="617688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52" y="40"/>
                  </a:moveTo>
                  <a:lnTo>
                    <a:pt x="87" y="0"/>
                  </a:lnTo>
                  <a:lnTo>
                    <a:pt x="0" y="30"/>
                  </a:lnTo>
                  <a:lnTo>
                    <a:pt x="70" y="80"/>
                  </a:lnTo>
                  <a:lnTo>
                    <a:pt x="52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08520" y="617688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52" y="40"/>
                  </a:moveTo>
                  <a:lnTo>
                    <a:pt x="87" y="0"/>
                  </a:lnTo>
                  <a:lnTo>
                    <a:pt x="0" y="30"/>
                  </a:lnTo>
                  <a:lnTo>
                    <a:pt x="70" y="80"/>
                  </a:lnTo>
                  <a:lnTo>
                    <a:pt x="52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61960" y="1552680"/>
            <a:ext cx="8020080" cy="481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080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olimodal</a:t>
            </a:r>
            <a:br>
              <a:rPr sz="4400"/>
            </a:br>
            <a:r>
              <a:rPr b="0" lang="en-US" sz="3600" spc="-1" strike="noStrike">
                <a:solidFill>
                  <a:srgbClr val="8cf4ea"/>
                </a:solidFill>
                <a:latin typeface="Times New Roman"/>
              </a:rPr>
              <a:t>Antes de la Instruc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6520" y="5521320"/>
            <a:ext cx="3976200" cy="271440"/>
            <a:chOff x="1676520" y="5521320"/>
            <a:chExt cx="3976200" cy="271440"/>
          </a:xfrm>
        </p:grpSpPr>
        <p:sp>
          <p:nvSpPr>
            <p:cNvPr id="105" name=""/>
            <p:cNvSpPr/>
            <p:nvPr/>
          </p:nvSpPr>
          <p:spPr>
            <a:xfrm>
              <a:off x="5245200" y="5562720"/>
              <a:ext cx="38088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10640" y="552132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5562720"/>
              <a:ext cx="26676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29160" y="55213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48040" y="5562720"/>
              <a:ext cx="26676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5200" y="55213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11480" y="5562720"/>
              <a:ext cx="26676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68640" y="55213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87520" y="5562720"/>
              <a:ext cx="26676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44680" y="55213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27280" y="5562720"/>
              <a:ext cx="15228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5521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09720" y="5447880"/>
            <a:ext cx="3632400" cy="50760"/>
            <a:chOff x="1809720" y="5447880"/>
            <a:chExt cx="3632400" cy="50760"/>
          </a:xfrm>
        </p:grpSpPr>
        <p:sp>
          <p:nvSpPr>
            <p:cNvPr id="118" name=""/>
            <p:cNvSpPr/>
            <p:nvPr/>
          </p:nvSpPr>
          <p:spPr>
            <a:xfrm flipV="1">
              <a:off x="180972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17800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53368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90196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25764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62592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99420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34988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71816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07348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44212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09720" y="5454720"/>
              <a:ext cx="36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63520" y="3251160"/>
            <a:ext cx="1566720" cy="1907280"/>
            <a:chOff x="263520" y="3251160"/>
            <a:chExt cx="1566720" cy="1907280"/>
          </a:xfrm>
        </p:grpSpPr>
        <p:sp>
          <p:nvSpPr>
            <p:cNvPr id="131" name=""/>
            <p:cNvSpPr/>
            <p:nvPr/>
          </p:nvSpPr>
          <p:spPr>
            <a:xfrm>
              <a:off x="787320" y="4915080"/>
              <a:ext cx="6987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5640" y="4826160"/>
              <a:ext cx="1164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New Century Schlbk"/>
                </a:rPr>
                <a:t>Velocid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6440" y="3340080"/>
              <a:ext cx="107964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520" y="3251160"/>
              <a:ext cx="1365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New Century Schlbk"/>
                </a:rPr>
                <a:t>Aceler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84520" y="2298240"/>
            <a:ext cx="25200" cy="3156480"/>
            <a:chOff x="1784520" y="2298240"/>
            <a:chExt cx="25200" cy="3156480"/>
          </a:xfrm>
        </p:grpSpPr>
        <p:sp>
          <p:nvSpPr>
            <p:cNvPr id="136" name=""/>
            <p:cNvSpPr/>
            <p:nvPr/>
          </p:nvSpPr>
          <p:spPr>
            <a:xfrm>
              <a:off x="1784520" y="5454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84520" y="387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84520" y="2305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809720" y="2298240"/>
              <a:ext cx="0" cy="314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803240" y="3251160"/>
            <a:ext cx="839880" cy="1893960"/>
            <a:chOff x="1803240" y="3251160"/>
            <a:chExt cx="839880" cy="1893960"/>
          </a:xfrm>
        </p:grpSpPr>
        <p:sp>
          <p:nvSpPr>
            <p:cNvPr id="141" name=""/>
            <p:cNvSpPr/>
            <p:nvPr/>
          </p:nvSpPr>
          <p:spPr>
            <a:xfrm>
              <a:off x="1803240" y="4826160"/>
              <a:ext cx="839880" cy="318960"/>
            </a:xfrm>
            <a:custGeom>
              <a:avLst/>
              <a:gdLst/>
              <a:ahLst/>
              <a:rect l="l" t="t" r="r" b="b"/>
              <a:pathLst>
                <a:path w="529" h="201">
                  <a:moveTo>
                    <a:pt x="0" y="200"/>
                  </a:moveTo>
                  <a:lnTo>
                    <a:pt x="528" y="200"/>
                  </a:lnTo>
                  <a:lnTo>
                    <a:pt x="528" y="0"/>
                  </a:lnTo>
                  <a:lnTo>
                    <a:pt x="0" y="0"/>
                  </a:lnTo>
                  <a:lnTo>
                    <a:pt x="0" y="2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03240" y="3251160"/>
              <a:ext cx="255600" cy="318960"/>
            </a:xfrm>
            <a:custGeom>
              <a:avLst/>
              <a:gdLst/>
              <a:ahLst/>
              <a:rect l="l" t="t" r="r" b="b"/>
              <a:pathLst>
                <a:path w="161" h="201">
                  <a:moveTo>
                    <a:pt x="0" y="200"/>
                  </a:moveTo>
                  <a:lnTo>
                    <a:pt x="160" y="20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2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533840" y="3149640"/>
            <a:ext cx="2019240" cy="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29240" y="3600360"/>
            <a:ext cx="164880" cy="20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02120" y="3594240"/>
            <a:ext cx="15620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76760" y="3505320"/>
            <a:ext cx="2508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 Century Schlbk"/>
              </a:rPr>
              <a:t>Antes de la Instr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02120" y="3213000"/>
            <a:ext cx="9651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08240" y="1803240"/>
            <a:ext cx="4559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7360" y="1712880"/>
            <a:ext cx="5782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Century Schlbk"/>
              </a:rPr>
              <a:t>Resultasos Promedio en el Polimod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34960" y="5892840"/>
            <a:ext cx="463572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3960" y="5819760"/>
            <a:ext cx="579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% de Estudiantes que Comprenden los Concep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18080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olimodal</a:t>
            </a:r>
            <a:br>
              <a:rPr sz="4400"/>
            </a:br>
            <a:r>
              <a:rPr b="0" lang="en-US" sz="3600" spc="-1" strike="noStrike">
                <a:solidFill>
                  <a:srgbClr val="8cf4ea"/>
                </a:solidFill>
                <a:latin typeface="Times New Roman"/>
              </a:rPr>
              <a:t>Después de la Instrucción Tradicion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19160" y="5587920"/>
            <a:ext cx="4020840" cy="271440"/>
            <a:chOff x="1919160" y="5587920"/>
            <a:chExt cx="4020840" cy="271440"/>
          </a:xfrm>
        </p:grpSpPr>
        <p:sp>
          <p:nvSpPr>
            <p:cNvPr id="155" name=""/>
            <p:cNvSpPr/>
            <p:nvPr/>
          </p:nvSpPr>
          <p:spPr>
            <a:xfrm>
              <a:off x="5532480" y="5627520"/>
              <a:ext cx="3873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97920" y="558792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51360" y="5627520"/>
              <a:ext cx="2700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8520" y="55879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8040" y="5627520"/>
              <a:ext cx="2696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75200" y="55879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71760" y="5627520"/>
              <a:ext cx="2714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28920" y="55879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38440" y="5627520"/>
              <a:ext cx="2714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95600" y="55879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69920" y="5627520"/>
              <a:ext cx="15408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9160" y="5587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054160" y="5511600"/>
            <a:ext cx="3678480" cy="52200"/>
            <a:chOff x="2054160" y="5511600"/>
            <a:chExt cx="3678480" cy="52200"/>
          </a:xfrm>
        </p:grpSpPr>
        <p:sp>
          <p:nvSpPr>
            <p:cNvPr id="168" name=""/>
            <p:cNvSpPr/>
            <p:nvPr/>
          </p:nvSpPr>
          <p:spPr>
            <a:xfrm flipV="1">
              <a:off x="2054160" y="55116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427120" y="5511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87480" y="55116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60800" y="5511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519360" y="55116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892680" y="5511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265640" y="55116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626000" y="5511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998960" y="55116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359320" y="5511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732640" y="55116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4160" y="5518080"/>
              <a:ext cx="366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9320" y="2970360"/>
            <a:ext cx="1577880" cy="1933920"/>
            <a:chOff x="409320" y="2970360"/>
            <a:chExt cx="1577880" cy="1933920"/>
          </a:xfrm>
        </p:grpSpPr>
        <p:sp>
          <p:nvSpPr>
            <p:cNvPr id="181" name=""/>
            <p:cNvSpPr/>
            <p:nvPr/>
          </p:nvSpPr>
          <p:spPr>
            <a:xfrm>
              <a:off x="944640" y="4659480"/>
              <a:ext cx="70812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2600" y="4572000"/>
              <a:ext cx="1164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New Century Schlbk"/>
                </a:rPr>
                <a:t>Velocid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8720" y="3057480"/>
              <a:ext cx="109404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9320" y="2970360"/>
              <a:ext cx="1469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New Century Schlbk"/>
                </a:rPr>
                <a:t>Acceler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028960" y="2307960"/>
            <a:ext cx="25200" cy="3210120"/>
            <a:chOff x="2028960" y="2307960"/>
            <a:chExt cx="25200" cy="3210120"/>
          </a:xfrm>
        </p:grpSpPr>
        <p:sp>
          <p:nvSpPr>
            <p:cNvPr id="186" name=""/>
            <p:cNvSpPr/>
            <p:nvPr/>
          </p:nvSpPr>
          <p:spPr>
            <a:xfrm>
              <a:off x="2028960" y="5518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28960" y="391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28960" y="2314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054160" y="2307960"/>
              <a:ext cx="0" cy="320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048040" y="3276720"/>
            <a:ext cx="850680" cy="1927080"/>
            <a:chOff x="2048040" y="3276720"/>
            <a:chExt cx="850680" cy="1927080"/>
          </a:xfrm>
        </p:grpSpPr>
        <p:sp>
          <p:nvSpPr>
            <p:cNvPr id="191" name=""/>
            <p:cNvSpPr/>
            <p:nvPr/>
          </p:nvSpPr>
          <p:spPr>
            <a:xfrm>
              <a:off x="2048040" y="4878360"/>
              <a:ext cx="850680" cy="325440"/>
            </a:xfrm>
            <a:custGeom>
              <a:avLst/>
              <a:gdLst/>
              <a:ahLst/>
              <a:rect l="l" t="t" r="r" b="b"/>
              <a:pathLst>
                <a:path w="536" h="205">
                  <a:moveTo>
                    <a:pt x="0" y="204"/>
                  </a:moveTo>
                  <a:lnTo>
                    <a:pt x="535" y="204"/>
                  </a:lnTo>
                  <a:lnTo>
                    <a:pt x="535" y="0"/>
                  </a:lnTo>
                  <a:lnTo>
                    <a:pt x="0" y="0"/>
                  </a:lnTo>
                  <a:lnTo>
                    <a:pt x="0" y="20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48040" y="3276720"/>
              <a:ext cx="258480" cy="32544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0" y="204"/>
                  </a:moveTo>
                  <a:lnTo>
                    <a:pt x="162" y="204"/>
                  </a:lnTo>
                  <a:lnTo>
                    <a:pt x="162" y="0"/>
                  </a:lnTo>
                  <a:lnTo>
                    <a:pt x="0" y="0"/>
                  </a:lnTo>
                  <a:lnTo>
                    <a:pt x="0" y="20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048040" y="2954160"/>
            <a:ext cx="1029960" cy="1925640"/>
            <a:chOff x="2048040" y="2954160"/>
            <a:chExt cx="1029960" cy="1925640"/>
          </a:xfrm>
        </p:grpSpPr>
        <p:sp>
          <p:nvSpPr>
            <p:cNvPr id="194" name=""/>
            <p:cNvSpPr/>
            <p:nvPr/>
          </p:nvSpPr>
          <p:spPr>
            <a:xfrm>
              <a:off x="2048040" y="4556160"/>
              <a:ext cx="1029960" cy="323640"/>
            </a:xfrm>
            <a:custGeom>
              <a:avLst/>
              <a:gdLst/>
              <a:ahLst/>
              <a:rect l="l" t="t" r="r" b="b"/>
              <a:pathLst>
                <a:path w="649" h="204">
                  <a:moveTo>
                    <a:pt x="0" y="203"/>
                  </a:moveTo>
                  <a:lnTo>
                    <a:pt x="648" y="203"/>
                  </a:lnTo>
                  <a:lnTo>
                    <a:pt x="648" y="0"/>
                  </a:lnTo>
                  <a:lnTo>
                    <a:pt x="0" y="0"/>
                  </a:lnTo>
                  <a:lnTo>
                    <a:pt x="0" y="203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8040" y="2954160"/>
              <a:ext cx="374400" cy="324000"/>
            </a:xfrm>
            <a:custGeom>
              <a:avLst/>
              <a:gdLst/>
              <a:ahLst/>
              <a:rect l="l" t="t" r="r" b="b"/>
              <a:pathLst>
                <a:path w="236" h="204">
                  <a:moveTo>
                    <a:pt x="0" y="203"/>
                  </a:moveTo>
                  <a:lnTo>
                    <a:pt x="235" y="203"/>
                  </a:lnTo>
                  <a:lnTo>
                    <a:pt x="235" y="0"/>
                  </a:lnTo>
                  <a:lnTo>
                    <a:pt x="0" y="0"/>
                  </a:lnTo>
                  <a:lnTo>
                    <a:pt x="0" y="203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813200" y="3173400"/>
            <a:ext cx="410220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08600" y="3708360"/>
            <a:ext cx="190440" cy="171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6520" y="3625920"/>
            <a:ext cx="158112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69520" y="3592440"/>
            <a:ext cx="8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08600" y="3222720"/>
            <a:ext cx="190440" cy="199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6520" y="3444840"/>
            <a:ext cx="160632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18680" y="3106800"/>
            <a:ext cx="4253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Después de Instrucción Tradi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9680" y="2552760"/>
            <a:ext cx="97632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46200" y="1805040"/>
            <a:ext cx="461664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9280" y="1717560"/>
            <a:ext cx="582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Century Schlbk"/>
              </a:rPr>
              <a:t>Resultados Promedio en el Polimod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5943600"/>
            <a:ext cx="4694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9400" y="5867280"/>
            <a:ext cx="5151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 Century Schlbk"/>
              </a:rPr>
              <a:t>% de Estudiantes que Comprenden los Concep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Ya sé lo que algunos están pensando…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ro profe universitario que le pega a la educación en media, y no aporta soluc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ne razón en part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 sé por dónde está la solució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Si me dan un momento, les mostraré que en esto estamos TODOS JUNTO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emos pruebas de que existe un aprendizaje sustancial y persistente de conceptos físicos en un gran número de estudiantes, en una variada gama de contextos, en los cursos y talleres que usan los métodos que han estado experimentando ah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les métodos también funcionan en poblaciones que normalmente no tienen un buen desempeño en física en USA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jeres y niñ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orías segrega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s con poca preparación inic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52280"/>
            <a:ext cx="8077320" cy="114300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Cursos de Física y Ciencias con Nuevas Metodologí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66880" y="1552680"/>
            <a:ext cx="8172360" cy="4971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olimodal</a:t>
            </a:r>
            <a:br>
              <a:rPr sz="4400"/>
            </a:br>
            <a:r>
              <a:rPr b="0" lang="en-US" sz="3600" spc="-1" strike="noStrike">
                <a:solidFill>
                  <a:srgbClr val="8cf4ea"/>
                </a:solidFill>
                <a:latin typeface="Times New Roman"/>
              </a:rPr>
              <a:t>Después de usar los Nuevos Méto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50960" y="5521320"/>
            <a:ext cx="3976200" cy="271440"/>
            <a:chOff x="1650960" y="5521320"/>
            <a:chExt cx="3976200" cy="271440"/>
          </a:xfrm>
        </p:grpSpPr>
        <p:sp>
          <p:nvSpPr>
            <p:cNvPr id="216" name=""/>
            <p:cNvSpPr/>
            <p:nvPr/>
          </p:nvSpPr>
          <p:spPr>
            <a:xfrm>
              <a:off x="5219640" y="5562720"/>
              <a:ext cx="3812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85080" y="552132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46440" y="5562720"/>
              <a:ext cx="26676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03960" y="55213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22840" y="5562720"/>
              <a:ext cx="2664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80000" y="55213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86280" y="5562720"/>
              <a:ext cx="2664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3440" y="55213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5562720"/>
              <a:ext cx="26676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9480" y="552132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01720" y="5562720"/>
              <a:ext cx="1526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0960" y="5521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784520" y="5447880"/>
            <a:ext cx="3632040" cy="50760"/>
            <a:chOff x="1784520" y="5447880"/>
            <a:chExt cx="3632040" cy="50760"/>
          </a:xfrm>
        </p:grpSpPr>
        <p:sp>
          <p:nvSpPr>
            <p:cNvPr id="229" name=""/>
            <p:cNvSpPr/>
            <p:nvPr/>
          </p:nvSpPr>
          <p:spPr>
            <a:xfrm flipV="1">
              <a:off x="178452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15280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50812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7640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23208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60036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96864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32432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260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048280" y="54478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416560" y="5447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84520" y="5454720"/>
              <a:ext cx="36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34440" y="2970360"/>
            <a:ext cx="1392120" cy="1876680"/>
            <a:chOff x="334440" y="2970360"/>
            <a:chExt cx="1392120" cy="1876680"/>
          </a:xfrm>
        </p:grpSpPr>
        <p:sp>
          <p:nvSpPr>
            <p:cNvPr id="242" name=""/>
            <p:cNvSpPr/>
            <p:nvPr/>
          </p:nvSpPr>
          <p:spPr>
            <a:xfrm>
              <a:off x="838080" y="4610160"/>
              <a:ext cx="6987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2960" y="4545000"/>
              <a:ext cx="993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New Century Schlbk"/>
                </a:rPr>
                <a:t>Veloc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" y="3035160"/>
              <a:ext cx="1079640" cy="1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4440" y="2970360"/>
              <a:ext cx="1235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New Century Schlbk"/>
                </a:rPr>
                <a:t>Accele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758960" y="2298240"/>
            <a:ext cx="25560" cy="3156480"/>
            <a:chOff x="1758960" y="2298240"/>
            <a:chExt cx="25560" cy="3156480"/>
          </a:xfrm>
        </p:grpSpPr>
        <p:sp>
          <p:nvSpPr>
            <p:cNvPr id="247" name=""/>
            <p:cNvSpPr/>
            <p:nvPr/>
          </p:nvSpPr>
          <p:spPr>
            <a:xfrm>
              <a:off x="1758960" y="5454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58960" y="387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8960" y="2305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784520" y="2298240"/>
              <a:ext cx="0" cy="314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778040" y="3251160"/>
            <a:ext cx="839880" cy="1893960"/>
            <a:chOff x="1778040" y="3251160"/>
            <a:chExt cx="839880" cy="1893960"/>
          </a:xfrm>
        </p:grpSpPr>
        <p:sp>
          <p:nvSpPr>
            <p:cNvPr id="252" name=""/>
            <p:cNvSpPr/>
            <p:nvPr/>
          </p:nvSpPr>
          <p:spPr>
            <a:xfrm>
              <a:off x="1778040" y="4826160"/>
              <a:ext cx="839880" cy="318960"/>
            </a:xfrm>
            <a:custGeom>
              <a:avLst/>
              <a:gdLst/>
              <a:ahLst/>
              <a:rect l="l" t="t" r="r" b="b"/>
              <a:pathLst>
                <a:path w="529" h="201">
                  <a:moveTo>
                    <a:pt x="0" y="200"/>
                  </a:moveTo>
                  <a:lnTo>
                    <a:pt x="528" y="200"/>
                  </a:lnTo>
                  <a:lnTo>
                    <a:pt x="528" y="0"/>
                  </a:lnTo>
                  <a:lnTo>
                    <a:pt x="0" y="0"/>
                  </a:lnTo>
                  <a:lnTo>
                    <a:pt x="0" y="2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78040" y="3251160"/>
              <a:ext cx="255600" cy="318960"/>
            </a:xfrm>
            <a:custGeom>
              <a:avLst/>
              <a:gdLst/>
              <a:ahLst/>
              <a:rect l="l" t="t" r="r" b="b"/>
              <a:pathLst>
                <a:path w="161" h="201">
                  <a:moveTo>
                    <a:pt x="0" y="200"/>
                  </a:moveTo>
                  <a:lnTo>
                    <a:pt x="160" y="20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2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78040" y="2933640"/>
            <a:ext cx="1017720" cy="1893960"/>
            <a:chOff x="1778040" y="2933640"/>
            <a:chExt cx="1017720" cy="1893960"/>
          </a:xfrm>
        </p:grpSpPr>
        <p:sp>
          <p:nvSpPr>
            <p:cNvPr id="255" name=""/>
            <p:cNvSpPr/>
            <p:nvPr/>
          </p:nvSpPr>
          <p:spPr>
            <a:xfrm>
              <a:off x="1778040" y="4508640"/>
              <a:ext cx="1017720" cy="318960"/>
            </a:xfrm>
            <a:custGeom>
              <a:avLst/>
              <a:gdLst/>
              <a:ahLst/>
              <a:rect l="l" t="t" r="r" b="b"/>
              <a:pathLst>
                <a:path w="641" h="201">
                  <a:moveTo>
                    <a:pt x="0" y="200"/>
                  </a:moveTo>
                  <a:lnTo>
                    <a:pt x="640" y="20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0" y="20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78040" y="2933640"/>
              <a:ext cx="369720" cy="319320"/>
            </a:xfrm>
            <a:custGeom>
              <a:avLst/>
              <a:gdLst/>
              <a:ahLst/>
              <a:rect l="l" t="t" r="r" b="b"/>
              <a:pathLst>
                <a:path w="233" h="201">
                  <a:moveTo>
                    <a:pt x="0" y="200"/>
                  </a:moveTo>
                  <a:lnTo>
                    <a:pt x="232" y="200"/>
                  </a:lnTo>
                  <a:lnTo>
                    <a:pt x="232" y="0"/>
                  </a:lnTo>
                  <a:lnTo>
                    <a:pt x="0" y="0"/>
                  </a:lnTo>
                  <a:lnTo>
                    <a:pt x="0" y="20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778040" y="2616120"/>
            <a:ext cx="3379680" cy="1893960"/>
            <a:chOff x="1778040" y="2616120"/>
            <a:chExt cx="3379680" cy="1893960"/>
          </a:xfrm>
        </p:grpSpPr>
        <p:sp>
          <p:nvSpPr>
            <p:cNvPr id="258" name=""/>
            <p:cNvSpPr/>
            <p:nvPr/>
          </p:nvSpPr>
          <p:spPr>
            <a:xfrm>
              <a:off x="1778040" y="4191120"/>
              <a:ext cx="3379680" cy="318960"/>
            </a:xfrm>
            <a:custGeom>
              <a:avLst/>
              <a:gdLst/>
              <a:ahLst/>
              <a:rect l="l" t="t" r="r" b="b"/>
              <a:pathLst>
                <a:path w="2129" h="201">
                  <a:moveTo>
                    <a:pt x="0" y="200"/>
                  </a:moveTo>
                  <a:lnTo>
                    <a:pt x="2128" y="200"/>
                  </a:lnTo>
                  <a:lnTo>
                    <a:pt x="2128" y="0"/>
                  </a:lnTo>
                  <a:lnTo>
                    <a:pt x="0" y="0"/>
                  </a:lnTo>
                  <a:lnTo>
                    <a:pt x="0" y="20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78040" y="2616120"/>
              <a:ext cx="2909880" cy="319320"/>
            </a:xfrm>
            <a:custGeom>
              <a:avLst/>
              <a:gdLst/>
              <a:ahLst/>
              <a:rect l="l" t="t" r="r" b="b"/>
              <a:pathLst>
                <a:path w="1833" h="201">
                  <a:moveTo>
                    <a:pt x="0" y="200"/>
                  </a:moveTo>
                  <a:lnTo>
                    <a:pt x="1832" y="200"/>
                  </a:lnTo>
                  <a:lnTo>
                    <a:pt x="1832" y="0"/>
                  </a:lnTo>
                  <a:lnTo>
                    <a:pt x="0" y="0"/>
                  </a:lnTo>
                  <a:lnTo>
                    <a:pt x="0" y="20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89480" y="3676680"/>
            <a:ext cx="190440" cy="203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9280" y="3635280"/>
            <a:ext cx="281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Antes de la Instr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89480" y="3282840"/>
            <a:ext cx="19044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29080" y="3228840"/>
            <a:ext cx="383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Después de Instruc. Tradi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9480" y="2838600"/>
            <a:ext cx="190440" cy="2030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1994040"/>
            <a:ext cx="9651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04520" y="2797200"/>
            <a:ext cx="384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Después de los Nuevos Méto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82680" y="1803240"/>
            <a:ext cx="455940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5760" y="1712880"/>
            <a:ext cx="582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Century Schlbk"/>
              </a:rPr>
              <a:t>Resultados Promedio en el Polimod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9760" y="5892840"/>
            <a:ext cx="463536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68400" y="5819760"/>
            <a:ext cx="579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% de Estudiantes que Comprenden los Concep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 esto estamos Todos Junt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amos cómo les va a los profesores en la Univer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61960" y="1781280"/>
            <a:ext cx="8020080" cy="4362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ursos Iniciales de Física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Antes de la Instruc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870920" y="5510160"/>
            <a:ext cx="4043520" cy="302040"/>
            <a:chOff x="1870920" y="5510160"/>
            <a:chExt cx="4043520" cy="302040"/>
          </a:xfrm>
        </p:grpSpPr>
        <p:sp>
          <p:nvSpPr>
            <p:cNvPr id="276" name=""/>
            <p:cNvSpPr/>
            <p:nvPr/>
          </p:nvSpPr>
          <p:spPr>
            <a:xfrm>
              <a:off x="5486400" y="5600880"/>
              <a:ext cx="2667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6640" y="5510160"/>
              <a:ext cx="48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0060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4120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7664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724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4008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8068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16120" y="5600880"/>
              <a:ext cx="190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56720" y="551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30320" y="5600880"/>
              <a:ext cx="1144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0920" y="551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 Century Schlbk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000160" y="5460480"/>
            <a:ext cx="3632400" cy="51480"/>
            <a:chOff x="2000160" y="5460480"/>
            <a:chExt cx="3632400" cy="51480"/>
          </a:xfrm>
        </p:grpSpPr>
        <p:sp>
          <p:nvSpPr>
            <p:cNvPr id="289" name=""/>
            <p:cNvSpPr/>
            <p:nvPr/>
          </p:nvSpPr>
          <p:spPr>
            <a:xfrm flipV="1">
              <a:off x="200016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36844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72412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09240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44808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81636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18464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54032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90860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264280" y="5460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632560" y="54608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00160" y="5467320"/>
              <a:ext cx="36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99680" y="2705040"/>
            <a:ext cx="1564920" cy="2425320"/>
            <a:chOff x="499680" y="2705040"/>
            <a:chExt cx="1564920" cy="2425320"/>
          </a:xfrm>
        </p:grpSpPr>
        <p:sp>
          <p:nvSpPr>
            <p:cNvPr id="302" name=""/>
            <p:cNvSpPr/>
            <p:nvPr/>
          </p:nvSpPr>
          <p:spPr>
            <a:xfrm>
              <a:off x="1079640" y="4876920"/>
              <a:ext cx="8254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59760" y="4813200"/>
              <a:ext cx="1104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New Century Schlbk"/>
                </a:rPr>
                <a:t>Velocidad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7640" y="3822840"/>
              <a:ext cx="12700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9680" y="3759120"/>
              <a:ext cx="13914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New Century Schlbk"/>
                </a:rPr>
                <a:t>Acceleració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08240" y="2768760"/>
              <a:ext cx="6094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8960" y="2705040"/>
              <a:ext cx="704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New Century Schlbk"/>
                </a:rPr>
                <a:t>Fuerz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974960" y="2298600"/>
            <a:ext cx="25200" cy="3168720"/>
            <a:chOff x="1974960" y="2298600"/>
            <a:chExt cx="25200" cy="3168720"/>
          </a:xfrm>
        </p:grpSpPr>
        <p:sp>
          <p:nvSpPr>
            <p:cNvPr id="309" name=""/>
            <p:cNvSpPr/>
            <p:nvPr/>
          </p:nvSpPr>
          <p:spPr>
            <a:xfrm>
              <a:off x="1974960" y="54673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4960" y="4413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74960" y="3359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4960" y="2305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000160" y="2298600"/>
              <a:ext cx="0" cy="316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994040" y="2946240"/>
            <a:ext cx="1639800" cy="2351160"/>
            <a:chOff x="1994040" y="2946240"/>
            <a:chExt cx="1639800" cy="2351160"/>
          </a:xfrm>
        </p:grpSpPr>
        <p:sp>
          <p:nvSpPr>
            <p:cNvPr id="315" name=""/>
            <p:cNvSpPr/>
            <p:nvPr/>
          </p:nvSpPr>
          <p:spPr>
            <a:xfrm>
              <a:off x="1994040" y="5054760"/>
              <a:ext cx="1639800" cy="242640"/>
            </a:xfrm>
            <a:custGeom>
              <a:avLst/>
              <a:gdLst/>
              <a:ahLst/>
              <a:rect l="l" t="t" r="r" b="b"/>
              <a:pathLst>
                <a:path w="1033" h="153">
                  <a:moveTo>
                    <a:pt x="0" y="152"/>
                  </a:moveTo>
                  <a:lnTo>
                    <a:pt x="1032" y="152"/>
                  </a:lnTo>
                  <a:lnTo>
                    <a:pt x="1032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94040" y="4000680"/>
              <a:ext cx="623880" cy="242640"/>
            </a:xfrm>
            <a:custGeom>
              <a:avLst/>
              <a:gdLst/>
              <a:ahLst/>
              <a:rect l="l" t="t" r="r" b="b"/>
              <a:pathLst>
                <a:path w="393" h="153">
                  <a:moveTo>
                    <a:pt x="0" y="152"/>
                  </a:moveTo>
                  <a:lnTo>
                    <a:pt x="392" y="152"/>
                  </a:lnTo>
                  <a:lnTo>
                    <a:pt x="392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94040" y="2946240"/>
              <a:ext cx="255600" cy="243000"/>
            </a:xfrm>
            <a:custGeom>
              <a:avLst/>
              <a:gdLst/>
              <a:ahLst/>
              <a:rect l="l" t="t" r="r" b="b"/>
              <a:pathLst>
                <a:path w="161" h="153">
                  <a:moveTo>
                    <a:pt x="0" y="152"/>
                  </a:moveTo>
                  <a:lnTo>
                    <a:pt x="160" y="152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181480" y="2692440"/>
            <a:ext cx="2286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76880" y="3156120"/>
            <a:ext cx="203040" cy="190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99000" y="3149640"/>
            <a:ext cx="1371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5920" y="3035160"/>
            <a:ext cx="2508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 Century Schlbk"/>
              </a:rPr>
              <a:t>Antes de la Instr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99000" y="2959200"/>
            <a:ext cx="1905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34960" y="1892160"/>
            <a:ext cx="472464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35640" y="1819440"/>
            <a:ext cx="615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Resultados promedio con Estudiantes Universi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97080" y="5854680"/>
            <a:ext cx="327672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68400" y="5819760"/>
            <a:ext cx="579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Century Schlbk"/>
              </a:rPr>
              <a:t>% de Estudiantes que Comprenden los Concep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1T18:51:21Z</dcterms:created>
  <dc:creator>Ron Thornton</dc:creator>
  <dc:description/>
  <dc:language>en-US</dc:language>
  <cp:lastModifiedBy>AM</cp:lastModifiedBy>
  <cp:lastPrinted>2009-04-22T19:24:48Z</cp:lastPrinted>
  <dcterms:modified xsi:type="dcterms:W3CDTF">2001-05-31T19:51:22Z</dcterms:modified>
  <cp:revision>30</cp:revision>
  <dc:subject/>
  <dc:title>Active Learning and  Curricular Reform in Science</dc:title>
</cp:coreProperties>
</file>