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B213-E8C2-41D7-9198-30C9A4D81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8067-DC2A-4AFF-BEF3-C661E4435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CD2D-5096-400B-BCCA-7483D74E2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3248-74A4-4B25-88FD-DBC9AEA2C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F6006-8743-419A-9445-3870D3C6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43738-8985-4920-BEDC-4FA9DCD3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CDCA5-217A-4C06-8FB8-9DCD1FEC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62EDD-FFBD-42F1-B0B9-6A2988B4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CC38-D3D1-42E3-8FBA-6C2A9365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C4135-2F21-4746-9870-4D56C4C4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AEDA8-C066-45B7-923D-3C6EE1A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E200-EB19-4913-BE3F-C8B18FE50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9598D-67F9-47E3-80D7-D7A2FC32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83822-F1F3-4226-A934-F225417B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11179-B3EE-414A-A636-A79884E4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497E5-53AA-4A44-B9A0-A41B9B92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5D669-754F-4D8A-A3CF-185F37B6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4767-B6D5-485D-82DD-94F2391D6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1204-C33A-4C4B-A210-C339D023E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0105-6F73-4DB2-8F1E-C4859ADB7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68F0-5268-4FEC-84FB-702A9B81A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D41C-FACA-4715-93D8-4C2808968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CF38-E83C-44C9-A702-90B552ED6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E790-642E-4A9D-AFB5-37C5FD629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85440" y="5866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800" spc="-1" strike="noStrike">
                <a:solidFill>
                  <a:srgbClr val="ffcc00"/>
                </a:solidFill>
                <a:latin typeface="Haettenschweil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Haettenschweiler"/>
              </a:rPr>
              <a:t>Prodymes I – LPI 02/2000 - Lotes 20, 21, 22 y 23 provistos 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cc00"/>
                </a:solidFill>
                <a:latin typeface="Arial"/>
              </a:rPr>
              <a:t>Tecnología Educativa s.a. </a:t>
            </a:r>
            <a:r>
              <a:rPr b="0" lang="es-ES_tradnl" sz="1800" spc="-1" strike="noStrike">
                <a:solidFill>
                  <a:srgbClr val="ffcc00"/>
                </a:solidFill>
                <a:latin typeface="Haettenschweiler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omic Sans MS"/>
              </a:rPr>
              <a:t>www.tecnoedu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06E-8207-4698-A901-061B3EF828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66"/>
                </a:solidFill>
                <a:latin typeface="Arial"/>
              </a:rPr>
              <a:t>Enseñanza de Ciencias Naturales con la Asistencia de Computadora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racterísticas Básicas de los Sist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Data Studio, Interactive Physics y Proso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F0D9B-6BF9-48C1-88D3-7B37033C8E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oftw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 los datos, lleva a cabo las tareas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le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y Mode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tracción de Estadísit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ADF1-B033-45BA-93D5-8F868CABC0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oftw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demás Perm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gresar o modificar datos manu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raficar funciones matemá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r Guías de Trabajos Prác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2E18-E0F3-4882-9429-039A1B713B3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: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Función Recolec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magnitudes se medir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da cuanto se validarán (leerá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úando dará comienzo la med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ándo terminar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2F3F-41F0-474E-B59C-DE96010C3D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Función Tratamient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señales eléctricas obtenidas se asocian a las magnitudes medidas a través de una interpolación lineal (calibración manual o automática y puesta a cer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magnitudes medidas pueden dar lugar a nuevas variables a través de cálculos estándar, estadísticos o espe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79CD-6EC3-486C-B69C-697219C1280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Función Presenta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dicadores de Díg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dicadores de Agu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blas de val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ráficos (tipo registr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scilog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formada Rápida de Fou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uía de Trabajos Prácticos (Workboo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2935-B585-444E-8431-0D80E6499FA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Presentación Gráf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mediciones directas o cálcu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una o más variables vs el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una o más variables vs otra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ejes comunes, separados o “montados en papel mantec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zoom individual o cole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asociación de regresiones, derivadas, integraciones e histog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rotulado y medición en v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BBCE-BA74-4687-9FAF-51414594EF4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Guías de Trabajos Prácticos </a:t>
            </a: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(Workbooks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strucciones para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figuración de la inter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figuración de la presentación y tratamiento de los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B8E3-D449-4F4E-A89F-3A98EF949A2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Interactive Phy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ftware de simulación para la enseñanza de la física. Con las herramientas provistas se pueden abordar estudios de estabilidad, caída libre en, velocidad con respecto a distintos sistemas de referencia, aceleración, primera y segunda ley de Newton, distinción entre masa y peso, cinemática y dinámica rotacional, colisiones, caída libre, trabajo y potencia, etc. creando las experiencias al definir los entornos y las condiciones ini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23B7-CA8D-4372-9F5D-78A4A8FA38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Interactive Phy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ip01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67600" cy="40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3591-2889-4264-BEBD-70503BA7F3C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Interactive Phy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ip0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664160" cy="3565800"/>
          </a:xfrm>
          <a:prstGeom prst="rect">
            <a:avLst/>
          </a:prstGeom>
          <a:ln w="0">
            <a:noFill/>
          </a:ln>
        </p:spPr>
      </p:pic>
      <p:pic>
        <p:nvPicPr>
          <p:cNvPr id="127" name="ip03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4686480" cy="3581640"/>
          </a:xfrm>
          <a:prstGeom prst="rect">
            <a:avLst/>
          </a:prstGeom>
          <a:ln w="0">
            <a:noFill/>
          </a:ln>
        </p:spPr>
      </p:pic>
      <p:pic>
        <p:nvPicPr>
          <p:cNvPr id="128" name="ip04" descr=""/>
          <p:cNvPicPr/>
          <p:nvPr/>
        </p:nvPicPr>
        <p:blipFill>
          <a:blip r:embed="rId3"/>
          <a:stretch/>
        </p:blipFill>
        <p:spPr>
          <a:xfrm>
            <a:off x="2019240" y="1752480"/>
            <a:ext cx="468648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AC10-376A-4672-92D5-797516A0C70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istente computerizado para el laboratorio de Ciencias Natu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ite medir, registrar, graficar y analizar múltiples magnitudes de trabajos experimentale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al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emp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ED12-118A-4D49-B532-88EE7F0F6DB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ProSol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oftware de Inteligencia Artificial para la enseñanza de la Física a través de la resolución asistida de 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uía en la comprensión de las consig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a esquemas de las situaciones bajo estu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enta las fórmulas del modelo matemático estándar que describe el fenóm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630B-A366-448E-AA4D-1122EB2F1D3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ProSol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siste en la búsqueda de las ecuaciones más adecuadas para resolver el problema en estu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yuda a despejar incógnitas y eliminar variables por sustit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mite crear gráficos de cualquier variable vs o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ando es pertinente, presenta una animación del fenómeno bajo estu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B81B-19C3-436D-8BF5-0EBC47701EE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ProSol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ps1" descr=""/>
          <p:cNvPicPr/>
          <p:nvPr/>
        </p:nvPicPr>
        <p:blipFill>
          <a:blip r:embed="rId1"/>
          <a:stretch/>
        </p:blipFill>
        <p:spPr>
          <a:xfrm>
            <a:off x="803160" y="1447920"/>
            <a:ext cx="6664320" cy="3736800"/>
          </a:xfrm>
          <a:prstGeom prst="rect">
            <a:avLst/>
          </a:prstGeom>
          <a:ln w="0">
            <a:noFill/>
          </a:ln>
        </p:spPr>
      </p:pic>
      <p:pic>
        <p:nvPicPr>
          <p:cNvPr id="135" name="ps2" descr=""/>
          <p:cNvPicPr/>
          <p:nvPr/>
        </p:nvPicPr>
        <p:blipFill>
          <a:blip r:embed="rId2"/>
          <a:stretch/>
        </p:blipFill>
        <p:spPr>
          <a:xfrm>
            <a:off x="1108080" y="1752480"/>
            <a:ext cx="6664320" cy="3737160"/>
          </a:xfrm>
          <a:prstGeom prst="rect">
            <a:avLst/>
          </a:prstGeom>
          <a:ln w="0">
            <a:noFill/>
          </a:ln>
        </p:spPr>
      </p:pic>
      <p:pic>
        <p:nvPicPr>
          <p:cNvPr id="136" name="ps3" descr=""/>
          <p:cNvPicPr/>
          <p:nvPr/>
        </p:nvPicPr>
        <p:blipFill>
          <a:blip r:embed="rId3"/>
          <a:stretch/>
        </p:blipFill>
        <p:spPr>
          <a:xfrm>
            <a:off x="1447920" y="2035080"/>
            <a:ext cx="6869160" cy="3679920"/>
          </a:xfrm>
          <a:prstGeom prst="rect">
            <a:avLst/>
          </a:prstGeom>
          <a:ln w="0">
            <a:noFill/>
          </a:ln>
        </p:spPr>
      </p:pic>
      <p:pic>
        <p:nvPicPr>
          <p:cNvPr id="137" name="ps4" descr=""/>
          <p:cNvPicPr/>
          <p:nvPr/>
        </p:nvPicPr>
        <p:blipFill>
          <a:blip r:embed="rId4"/>
          <a:stretch/>
        </p:blipFill>
        <p:spPr>
          <a:xfrm>
            <a:off x="1828800" y="2286000"/>
            <a:ext cx="68803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E36F-3765-4895-8A98-FB9261CE6F6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s5" descr=""/>
          <p:cNvPicPr/>
          <p:nvPr/>
        </p:nvPicPr>
        <p:blipFill>
          <a:blip r:embed="rId1"/>
          <a:stretch/>
        </p:blipFill>
        <p:spPr>
          <a:xfrm>
            <a:off x="914400" y="341280"/>
            <a:ext cx="7743960" cy="6364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ProSol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6488-D687-45DE-82A9-249E7C67A04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www.tecnoedu.c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-360" y="3805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drán bajar este resúmen de características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4114800"/>
            <a:ext cx="5638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 solicitarlo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Tecnología Educativa s.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fo@tecnoedu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lefax (0351) 461 7007 ro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eccar Varela 658 – Córdoba – 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t.: Ing. Sergio San Romá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E567C-9702-4D40-B515-D0BF99E306FC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2" name="Bundle%20Prodyme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40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DD7E-2AF4-4D41-B067-D9849311DB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ds1" descr=""/>
          <p:cNvPicPr/>
          <p:nvPr/>
        </p:nvPicPr>
        <p:blipFill>
          <a:blip r:embed="rId1"/>
          <a:stretch/>
        </p:blipFill>
        <p:spPr>
          <a:xfrm>
            <a:off x="1170000" y="1774800"/>
            <a:ext cx="6068880" cy="3635280"/>
          </a:xfrm>
          <a:prstGeom prst="rect">
            <a:avLst/>
          </a:prstGeom>
          <a:ln w="0">
            <a:noFill/>
          </a:ln>
        </p:spPr>
      </p:pic>
      <p:pic>
        <p:nvPicPr>
          <p:cNvPr id="95" name="ds2" descr=""/>
          <p:cNvPicPr/>
          <p:nvPr/>
        </p:nvPicPr>
        <p:blipFill>
          <a:blip r:embed="rId2"/>
          <a:stretch/>
        </p:blipFill>
        <p:spPr>
          <a:xfrm>
            <a:off x="5638680" y="1143000"/>
            <a:ext cx="2789280" cy="2125800"/>
          </a:xfrm>
          <a:prstGeom prst="rect">
            <a:avLst/>
          </a:prstGeom>
          <a:ln w="0">
            <a:noFill/>
          </a:ln>
        </p:spPr>
      </p:pic>
      <p:pic>
        <p:nvPicPr>
          <p:cNvPr id="96" name="ds3" descr=""/>
          <p:cNvPicPr/>
          <p:nvPr/>
        </p:nvPicPr>
        <p:blipFill>
          <a:blip r:embed="rId3"/>
          <a:stretch/>
        </p:blipFill>
        <p:spPr>
          <a:xfrm>
            <a:off x="5749920" y="3886200"/>
            <a:ext cx="2708280" cy="18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D182-6362-451D-A6FB-012E971236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Constitución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21333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ns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f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0EBF-8E69-48E3-90D9-07E0FC1303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da sensor mide una o más magnitudes físico-químicas, transformándolas en una señal eléctrica que puede ser enviada a un sistema de procesamiento electrón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ensores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8BE5-CD00-40EF-9898-41458FE256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ensores Provistos a Prodymes I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Fís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ferencia de poten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trasónico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sición, velocidad y aceleració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erz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mpera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n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rera infrarroja y polea de baja fri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ccesorio para medición directa de g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CD58-A4CB-4FEA-BC5F-3D3569CC14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ensores Provistos a Prodymes I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Quím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(x 2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sión absolu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lorímetro (3 longitudes de on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EEAD-48D1-430E-8E81-8B9EB5F3E6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Interfas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e de Vínculo entre los Sensores y la 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mite conectar hasta 5 sensores simultáne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uede tomar datos autónomamente (lejos de la PC), facilitando los trabajos de ca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ma desde 1 muestra por hora hasta 20000 por segu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A025-BBAE-4116-A361-B87FD3562E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04:04:21Z</dcterms:created>
  <dc:creator>AM</dc:creator>
  <dc:description/>
  <dc:language>en-US</dc:language>
  <cp:lastModifiedBy>AM</cp:lastModifiedBy>
  <dcterms:modified xsi:type="dcterms:W3CDTF">2001-07-10T02:07:22Z</dcterms:modified>
  <cp:revision>23</cp:revision>
  <dc:subject/>
  <dc:title>Laboratorio de Ciencias Asistido por Computadoras</dc:title>
</cp:coreProperties>
</file>