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FE3-15CA-4904-83DB-CC6BA84E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81E-90C0-4A1D-8620-33881563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DED-8F6B-4EAB-9D13-75EE857F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FFC-5FCA-4CF4-9B0B-48D923ED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B7B2-8625-49C6-9D0A-A17A105D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F905-63B6-4501-9ECA-CA49D694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022B-CD76-4FFE-8D54-E5BB3B01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E2B0-EE42-4D46-A2AD-335A9616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F958-FD50-4B29-89D5-EEC957EB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3FE6-3DF6-4CCE-BDD6-091FB6FC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76E1-F8C5-47A7-99D8-F8F93D6F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C01-7F2F-4388-8DE0-EF416988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0B4A-906B-4F72-A023-FE035CA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02C-0122-4C3E-922E-F8CACEA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E89A-3B2D-49A5-9F7B-7843DF4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B871-C3F2-4735-8485-0E36E695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67FC-8AA6-4A39-B5C2-16A31E9B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462-90ED-4C9D-B872-1DE09CC6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32A-27B7-453B-9AE3-0F203B4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C08-E6EC-4E8F-8884-F64962D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6C6-9522-4C86-9956-7FF67DC6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5A95-2EE0-416C-8AEF-C78B787A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DB81-B72E-4D92-86C8-4C4AAFD6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941-2D56-462B-9195-EF70E3CA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7A4E-6533-4AF8-A7EC-BB000150C3E8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C783-C2D3-4ECF-B397-F0C794A08147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534520" y="6477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on las nuevas tecnologí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Más que fijarse en hechos particulares, la ciencia busca conclusiones generales que nos permitan comprender mejor el universo en que vivim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505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u obtención implica la recolección, análisis y comparación de una gran cantidad de datos y hechos experiment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Los métodos tradicionales exigen un tiempo y dedicación no disponibles en el ámbito escola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9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Con las técnicas tradicionales aún fenómenos muy simples requieren un abordaje laborioso, como por ejemplo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de qué manera cambia la temperatura del agua en un vaso a medida que agregamos hiel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809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cómo varía la velocidad de un cuerpo que baja por una pendiente? ¿qué pasa si cambia la pendi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5720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es constante la temperatura en el cuerpo humano? ¿estamos </a:t>
            </a:r>
            <a:r>
              <a:rPr b="0" i="1" lang="es-ES_tradnl" sz="2400" spc="-1" strike="noStrike">
                <a:solidFill>
                  <a:srgbClr val="ffffcc"/>
                </a:solidFill>
                <a:latin typeface="Times New Roman"/>
              </a:rPr>
              <a:t>todos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nosotros a unos 37 grados en condiciones normal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562720"/>
            <a:ext cx="77724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¿hay energía puesta en juego en las reacciones químicas? ¿cómo se manifiesta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2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uso de programas, interfases y sensores integrados en las Nuevas Tecnologías, y el enorme poder de cálculo disponible en PCs corrientes nos permiten ver el mundo con nuevos ojos y descubrir lo invisible. Nos regalan tiempo para dejar volar la imaginación y concentrarnos en los fenómenos que nos intrigan, más que en procedimientos mecánicos y repetitiv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4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señar Ciencias Natur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Hoy, </a:t>
            </a: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en este laboratorio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, disponemos de herramientas que hubieran provocado envidia a Galileo, Bohr y Paste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5029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00"/>
                </a:solidFill>
                <a:latin typeface="Times New Roman"/>
              </a:rPr>
              <a:t>¡y lo haremo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Nosotros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podemos aprovecharlas para mejorar el presente y futuro de nuestra comunid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 advTm="17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cc00"/>
                </a:solidFill>
                <a:latin typeface="Arial Narrow"/>
              </a:rPr>
              <a:t>PRODYMES I Mendoza</a:t>
            </a:r>
            <a:br>
              <a:rPr sz="3200"/>
            </a:br>
            <a:r>
              <a:rPr b="0" i="1" lang="es-ES_tradnl" sz="4000" spc="-1" strike="noStrike">
                <a:solidFill>
                  <a:srgbClr val="ffcc00"/>
                </a:solidFill>
                <a:latin typeface="Arial"/>
              </a:rPr>
              <a:t>Nuevas Tecnología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cc"/>
                </a:solidFill>
                <a:latin typeface="Times New Roman"/>
              </a:rPr>
              <a:t>enseñar mejor, aprender mej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791320"/>
            <a:ext cx="358164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0099"/>
                </a:solidFill>
                <a:latin typeface="Arial"/>
              </a:rPr>
              <a:t>Tecnología Educativa s.a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c0099"/>
                </a:solidFill>
                <a:latin typeface="Arial Narrow"/>
              </a:rPr>
              <a:t>CORDOBA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04:52:36Z</dcterms:created>
  <dc:creator>AM</dc:creator>
  <dc:description/>
  <dc:language>en-US</dc:language>
  <cp:lastModifiedBy>AM</cp:lastModifiedBy>
  <dcterms:modified xsi:type="dcterms:W3CDTF">2001-07-06T12:24:05Z</dcterms:modified>
  <cp:revision>41</cp:revision>
  <dc:subject/>
  <dc:title>Enseñar Ciencias Naturales</dc:title>
</cp:coreProperties>
</file>