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02E3-D52C-47E5-A4AF-EC9EC62E4D5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ilvia Guerrier 4-060, Oscar AníbalLugo 4-123, Eduardo Ruiz Peyré Krause, Nélida Allaca Krause, Leonardo Escudero 4-122, Mónica Delbono Ctro Reg Capacitación, Pablo Roggerone 4-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iliana Segura 4-020, Gabriela Ohanian 4-046, Julio Morales 4-108, Hernán Olave 4-121, Carlos Gutiérrez 4-109/121, José Dacar 4-053, Myrna Brúculo 4-1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lejandro Lazo 4-118, Mariela Antión 4-003, Ramón González 4-020, Ana María Marra 4-106, Mario Russo 4-106, Juan Urzúa 4-118, Claudia Lucero 4-0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712-21BB-4CE8-8700-DA8CBE6A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64F2-EB77-45EF-8A95-DED89364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D28-19F7-4CFB-933B-6E392B2E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06F-C0E7-4898-9191-71205605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4FDE-BA49-4574-9E43-585C3FF7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9905-F91B-4FAA-82A2-10BD7E24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9873-2212-4065-83C0-44DAF8F4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D8CE-1758-4B51-AB5A-A269D277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1CFD-21F9-4E7A-8557-333C2C8C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F0D6-88EC-4149-915D-95309340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A82A-3D8D-411B-A0A5-E71CAEFD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E248-3786-4C18-8348-5DE4995C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CBE2-C218-496B-BD07-BBDEB6ED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08B9-B9B9-4AD5-A8B4-EAF80183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8AC5-551D-4D87-B25B-F67DEA44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E3A6-6505-422D-ABB2-33F00551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D6F1-112A-47D2-A988-A18936AB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851-C063-4E04-B2ED-352F6848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6D8-A74B-45BF-B47E-F13401EF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FA94-11B4-4658-955C-AFBE5852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E2E-188A-4D23-AC15-3BF892DD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EDAD-14C1-4BA7-9F50-C258DD9F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F864-6A70-48A7-A49A-44C7DEDB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4D8-E132-4773-B131-D46E7C91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A74D-3177-4238-A3CB-D8680EB9FC6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A4D6-69E5-4B2A-BC65-0387D42E1035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81280" y="304920"/>
            <a:ext cx="55612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786950"/>
                </a:solidFill>
                <a:latin typeface="Times New Roman"/>
              </a:rPr>
              <a:t>Mendoza</a:t>
            </a:r>
            <a:br>
              <a:rPr sz="4400"/>
            </a:br>
            <a:r>
              <a:rPr b="0" lang="es-ES_tradnl" sz="4400" spc="-1" strike="noStrike">
                <a:solidFill>
                  <a:srgbClr val="786950"/>
                </a:solidFill>
                <a:latin typeface="Times New Roman"/>
              </a:rPr>
              <a:t>              y </a:t>
            </a:r>
            <a:br>
              <a:rPr sz="4400"/>
            </a:br>
            <a:r>
              <a:rPr b="0" lang="es-ES_tradnl" sz="4400" spc="-1" strike="noStrike">
                <a:solidFill>
                  <a:srgbClr val="786950"/>
                </a:solidFill>
                <a:latin typeface="Times New Roman"/>
              </a:rPr>
              <a:t>                  el ProSolv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73240" y="3428640"/>
            <a:ext cx="632304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786950"/>
                </a:solidFill>
                <a:latin typeface="Times New Roman"/>
              </a:rPr>
              <a:t>Curso sobre Enseñanza de la Física a través de Resolución de Problemas y Software Asistente</a:t>
            </a:r>
            <a:endParaRPr b="0" lang="en-US" sz="30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86950"/>
                </a:solidFill>
                <a:latin typeface="Times New Roman"/>
              </a:rPr>
              <a:t>2 al 5 de Julio de 2001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786950"/>
                </a:solidFill>
                <a:latin typeface="Arial"/>
              </a:rPr>
              <a:t>Tecnología Educativa s.a.</a:t>
            </a:r>
            <a:endParaRPr b="0" lang="en-US" sz="20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786950"/>
                </a:solidFill>
                <a:latin typeface="Arial"/>
              </a:rPr>
              <a:t>Dirección General de Escuelas</a:t>
            </a:r>
            <a:endParaRPr b="0" lang="en-US" sz="20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786950"/>
                </a:solidFill>
                <a:latin typeface="Arial"/>
              </a:rPr>
              <a:t>Docente: Ing. Sergio San Román</a:t>
            </a:r>
            <a:endParaRPr b="0" lang="en-US" sz="20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8695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296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Mendoza - Grupo Tarde</a:t>
            </a:r>
            <a:br>
              <a:rPr sz="4400"/>
            </a:b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2 y 3 de Julio 200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ejandro Lazo 4-1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riela Antión 4-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món González 4-0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a María Marra 4-1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rio Russo 4-1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Urzúa 4-1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udia Lucerh 4-0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Ana María y Mario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gf_0189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981080" y="1730520"/>
            <a:ext cx="6324840" cy="474156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Juan, Ramón y Alejandro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agf_0190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057400" y="1752480"/>
            <a:ext cx="6400800" cy="479916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Mariela y Claudi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agf_0191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905120" y="1582560"/>
            <a:ext cx="6629400" cy="497052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Mendoza - </a:t>
            </a:r>
            <a:r>
              <a:rPr b="0" lang="es-ES_tradnl" sz="3600" spc="-1" strike="noStrike">
                <a:solidFill>
                  <a:srgbClr val="996600"/>
                </a:solidFill>
                <a:latin typeface="Times New Roman"/>
              </a:rPr>
              <a:t>V  Invasión 4 de Julio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2" name="agf_0194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828800" y="1373040"/>
            <a:ext cx="6705720" cy="502776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Grupo 4 de Julio de 200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lvia Guerrier 4-0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scar Aníbal Lugo 4-1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duardo Ruiz Peyré - Kr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élida Allaca – Kr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onardo Escudero 4-1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ónica Delbono Ctro Reg Capac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blo Roggerone 4-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Silvia, Eduardo y Nélid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6" name="agf_0195" descr=""/>
          <p:cNvPicPr/>
          <p:nvPr/>
        </p:nvPicPr>
        <p:blipFill>
          <a:blip r:embed="rId1"/>
          <a:stretch/>
        </p:blipFill>
        <p:spPr>
          <a:xfrm>
            <a:off x="2286000" y="1716120"/>
            <a:ext cx="5943600" cy="445608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00"/>
                </a:solidFill>
                <a:latin typeface="Times New Roman"/>
              </a:rPr>
              <a:t>Nélida, Oscar, Pablo, Mónica y Leonardo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8" name="agf_0196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019920" cy="451332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6600"/>
                </a:solidFill>
                <a:latin typeface="Times New Roman"/>
              </a:rPr>
              <a:t>Oscar, Pablo, Mónica y Leonardo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30" name="agf_0197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209680" y="1981080"/>
            <a:ext cx="5685120" cy="42624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996600"/>
                </a:solidFill>
                <a:latin typeface="Times New Roman"/>
              </a:rPr>
              <a:t>Oscar, Mónica, Leonardo, Sergio, Pablo, Silvia, Nélida y Eduardo</a:t>
            </a:r>
            <a:endParaRPr b="0" lang="en-US" sz="26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32" name="agf_0198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828800" y="1600200"/>
            <a:ext cx="6705720" cy="502776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Mendoza - Grupo Mañan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gf_0184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523880" y="1676520"/>
            <a:ext cx="7315200" cy="466236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786950"/>
                </a:solidFill>
                <a:latin typeface="Times New Roman"/>
              </a:rPr>
              <a:t>Grupo San Rafael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86950"/>
                </a:solidFill>
                <a:latin typeface="Times New Roman"/>
              </a:rPr>
              <a:t>5 de Julio de 2001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p:transition advTm="6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San Rafael </a:t>
            </a:r>
            <a:r>
              <a:rPr b="0" i="1" lang="es-ES_tradnl" sz="4400" spc="-1" strike="noStrike">
                <a:solidFill>
                  <a:srgbClr val="996600"/>
                </a:solidFill>
                <a:latin typeface="Times New Roman"/>
              </a:rPr>
              <a:t>El luga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36" name="agf_0199" descr=""/>
          <p:cNvPicPr/>
          <p:nvPr/>
        </p:nvPicPr>
        <p:blipFill>
          <a:blip r:embed="rId1"/>
          <a:stretch/>
        </p:blipFill>
        <p:spPr>
          <a:xfrm>
            <a:off x="1828800" y="1506600"/>
            <a:ext cx="6629400" cy="497052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San Rafael </a:t>
            </a:r>
            <a:r>
              <a:rPr b="0" i="1" lang="es-ES_tradnl" sz="4400" spc="-1" strike="noStrike">
                <a:solidFill>
                  <a:srgbClr val="996600"/>
                </a:solidFill>
                <a:latin typeface="Times New Roman"/>
              </a:rPr>
              <a:t>El luga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38" name="agf_0200" descr=""/>
          <p:cNvPicPr/>
          <p:nvPr/>
        </p:nvPicPr>
        <p:blipFill>
          <a:blip r:embed="rId1"/>
          <a:stretch/>
        </p:blipFill>
        <p:spPr>
          <a:xfrm>
            <a:off x="1828800" y="1411200"/>
            <a:ext cx="6858000" cy="514188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San Rafael </a:t>
            </a:r>
            <a:r>
              <a:rPr b="0" i="1" lang="es-ES_tradnl" sz="4400" spc="-1" strike="noStrike">
                <a:solidFill>
                  <a:srgbClr val="996600"/>
                </a:solidFill>
                <a:latin typeface="Times New Roman"/>
              </a:rPr>
              <a:t>El luga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40" name="agf_0201" descr=""/>
          <p:cNvPicPr/>
          <p:nvPr/>
        </p:nvPicPr>
        <p:blipFill>
          <a:blip r:embed="rId1"/>
          <a:stretch/>
        </p:blipFill>
        <p:spPr>
          <a:xfrm>
            <a:off x="1981080" y="1585800"/>
            <a:ext cx="6523200" cy="489132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Grupo San Rafael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tha Sola – 4-1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ejandra Lo Moro – 4-1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udia Manuel – 4-1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éstor Sosa – 4-1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Jorge Luis Prósperi – 4-1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ejandro Hombla – 4-1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lvio Panconi – 4-0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celo Fabián Gómez – 4-0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iginio Jorge Vázquez – 4-1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íbal Luis Ridolfi - 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Claudia, Martha y Jorg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44" name="agf_0202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6522840" cy="489096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Higinio, Alejandra, Marcelo, Silvio, Alejandro, Néstor, Jorge, Martha y Claudi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46" name="agf_0203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752480" y="1447920"/>
            <a:ext cx="6904080" cy="51768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6600"/>
                </a:solidFill>
                <a:latin typeface="Times New Roman"/>
              </a:rPr>
              <a:t>Alejandro, Silvio, Marcelo, Alejandra, Higinio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48" name="agf_0204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6522840" cy="489132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786950"/>
                </a:solidFill>
                <a:latin typeface="Times New Roman"/>
              </a:rPr>
              <a:t>¡¡Gracias!!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058480" y="4266720"/>
            <a:ext cx="66279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86950"/>
                </a:solidFill>
                <a:latin typeface="Times New Roman"/>
              </a:rPr>
              <a:t>nos seguimos viendo en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8695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786950"/>
                </a:solidFill>
                <a:latin typeface="Comic Sans MS"/>
              </a:rPr>
              <a:t>www.tecnoedu.com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p:transition advTm="6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Mendoza - Grupo Mañan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97" name="agf_0185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981080" y="1828800"/>
            <a:ext cx="6400800" cy="479916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Mendoza - Grupo Mañana</a:t>
            </a:r>
            <a:br>
              <a:rPr sz="4400"/>
            </a:b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2 y 3 de Julio de 200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iliana Segura 4-0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briela Ohanian 4-0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lio Morales 4-1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ernán Olave 4-1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rlos Gutiérrez 4-109/1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Dacar 4-0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yrna Brúculo 4-1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Gabriela, Julio y José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01" name="agf_0186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752480" y="1523880"/>
            <a:ext cx="6705720" cy="502776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Hernán y Carlo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03" name="agf_0187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087640" y="1695600"/>
            <a:ext cx="6446880" cy="483372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Liliana y Myrn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05" name="agf_0188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6476760" cy="485604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Mendoza - Grupo Tar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07" name="agf_019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752480" y="1411200"/>
            <a:ext cx="6858000" cy="514188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Carga de combustible...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09" name="agf_0193" descr=""/>
          <p:cNvPicPr/>
          <p:nvPr/>
        </p:nvPicPr>
        <p:blipFill>
          <a:blip r:embed="rId1"/>
          <a:srcRect l="0" t="0" r="0" b="12303"/>
          <a:stretch/>
        </p:blipFill>
        <p:spPr>
          <a:xfrm>
            <a:off x="1828800" y="1828800"/>
            <a:ext cx="6781680" cy="445932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9:53:12Z</dcterms:created>
  <dc:creator>AM</dc:creator>
  <dc:description/>
  <dc:language>en-US</dc:language>
  <cp:lastModifiedBy>Claudio Kübl</cp:lastModifiedBy>
  <dcterms:modified xsi:type="dcterms:W3CDTF">2001-07-11T20:52:54Z</dcterms:modified>
  <cp:revision>16</cp:revision>
  <dc:subject/>
  <dc:title>Mendoza y El ProSolv</dc:title>
</cp:coreProperties>
</file>