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E5F-5CD2-4B50-8267-62548C42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342-606F-42B8-A032-BAEADDA9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2EF-5873-4813-BAFC-2DEB7777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D49-624E-4353-9785-B9D7CF39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94D-82B8-4B57-BCF3-C33DD59E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AF1A-2D61-4636-B76B-4FC3F9C8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64C-F470-40DE-B632-F690DA4D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DCF-4676-480A-BA5A-16EB0CF5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546-7F65-4F76-935B-F870B15F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DC4-6608-44A8-87A0-552963BC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5DC-0E6F-4ACD-A10D-7F5E045F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491-0172-4CA3-8BB9-DE1DF9E5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0A03-4ED3-48BC-A91E-EF7290520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6476040" y="2742120"/>
            <a:ext cx="2159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CONOS Y COMA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LCUL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2000" y="4876920"/>
            <a:ext cx="40784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.- Menu funciones predefinid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7.- Borra los datos existen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.- Ingreso de las tablas de dato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8.- Teclado calculad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.- Modo estandard a Hewlet Packard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9.- Nombre corto de la vari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.- Display de la calculadora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0.-Nombre largo de la vari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5.- Nueva “calculadora”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1.- Unidad de la vari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6.- Duplica calculadora ex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67160" y="1467000"/>
            <a:ext cx="3633480" cy="2581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30960" y="914400"/>
            <a:ext cx="3285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            2              3               4               5              6            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84680" y="4419720"/>
            <a:ext cx="2869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8                               9                   10                    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35120" y="2820960"/>
            <a:ext cx="1054080" cy="135900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62160" y="4192560"/>
            <a:ext cx="0" cy="216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29200" y="3887640"/>
            <a:ext cx="0" cy="520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76760" y="3887640"/>
            <a:ext cx="0" cy="520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815000" y="3265560"/>
            <a:ext cx="0" cy="1155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3356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9076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2428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9096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2448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8168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57800" y="1144440"/>
            <a:ext cx="0" cy="90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rot="5400000">
            <a:off x="6170760" y="2742840"/>
            <a:ext cx="3360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CONOS Y COMA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ALIZADOR DE FRECUENCIA (F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74960" y="1371600"/>
            <a:ext cx="3029040" cy="1981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61960" y="1592280"/>
            <a:ext cx="24552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11440" y="1663560"/>
            <a:ext cx="368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11440" y="1816200"/>
            <a:ext cx="368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1440" y="2502000"/>
            <a:ext cx="368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79000" y="3726000"/>
            <a:ext cx="1973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                              5   6     7      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052880" y="3180960"/>
            <a:ext cx="0" cy="546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043600" y="3180960"/>
            <a:ext cx="0" cy="546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195880" y="3180960"/>
            <a:ext cx="0" cy="546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24480" y="2889360"/>
            <a:ext cx="0" cy="82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29400" y="2889360"/>
            <a:ext cx="0" cy="82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7800" y="1820880"/>
            <a:ext cx="30960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22560" y="1892160"/>
            <a:ext cx="546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722560" y="2425680"/>
            <a:ext cx="546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30960" y="2432160"/>
            <a:ext cx="825480" cy="291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34560" y="4506840"/>
            <a:ext cx="5643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.- Amplia el factor de escala de las ordenad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7.- Activa y desactiva el curs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.- Reduce el factor de escala de las ordenad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8.- Configura el analizador F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.- Cambia la variable de las ordenad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9.- Exporta los datos del clu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.- Cambia la variable de las absiz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0.- Menu de tabla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5.- Reduce el factor de escala de las absiz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1.- Selector de canal a analiz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6.- Amplia el factor de escala de las ordena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747360" y="374760"/>
            <a:ext cx="7834680" cy="6192720"/>
            <a:chOff x="747360" y="374760"/>
            <a:chExt cx="7834680" cy="6192720"/>
          </a:xfrm>
        </p:grpSpPr>
        <p:sp>
          <p:nvSpPr>
            <p:cNvPr id="76" name=""/>
            <p:cNvSpPr/>
            <p:nvPr/>
          </p:nvSpPr>
          <p:spPr>
            <a:xfrm>
              <a:off x="1352160" y="4924440"/>
              <a:ext cx="60015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OMENCLA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.- Menu Principal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.- Configuración|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1.- Medidor Digit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.- Minimizar SW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.- Registr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2.- Medidor Analógic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.- Reducir SW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3.- Monitore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3.- Osciloscopi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.- Cerrar SW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4.- Parar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4.- Transf. de Fouri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.- Menu Bar SW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5.- Pausa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5.- Tabla de Da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.- Sub Menu Configuración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6.- Ventana de Registro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6.- Gráfic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7.- Minimizar Configuración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7.- Opciones de Muestreo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7.- Plug Analógic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.- Reducir Configuración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8.- Block de Nota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8.- Canales Digita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9.- Cerrar Configuración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9.- Calculadora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9.- Canales Analógic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.- Comandos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0.- Plug Digital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5400000">
              <a:off x="6002280" y="3297600"/>
              <a:ext cx="4857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CONOS PANTALLA PRINCIPAL SCIENCE WORKSH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1343160" y="895320"/>
              <a:ext cx="6057720" cy="33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490560" y="374760"/>
              <a:ext cx="286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42880" y="37476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   3 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360" y="106056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7360" y="1060560"/>
              <a:ext cx="321480" cy="25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3720" y="4260960"/>
              <a:ext cx="3651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0        21          22          23         24         25         26          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0292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4864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01992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5720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1148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6576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12408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7432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73160" y="3429000"/>
              <a:ext cx="1130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73160" y="3276720"/>
              <a:ext cx="67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73160" y="2971800"/>
              <a:ext cx="3682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73160" y="23623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73160" y="2057400"/>
              <a:ext cx="1054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073160" y="1746360"/>
              <a:ext cx="1130400" cy="164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073160" y="1669680"/>
              <a:ext cx="749160" cy="88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73160" y="1600200"/>
              <a:ext cx="3682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73160" y="1295280"/>
              <a:ext cx="2919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97640" y="1143000"/>
              <a:ext cx="216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7600" y="615960"/>
              <a:ext cx="0" cy="29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10280" y="615960"/>
              <a:ext cx="0" cy="29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62920" y="615960"/>
              <a:ext cx="0" cy="29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15200" y="615960"/>
              <a:ext cx="0" cy="29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8240" y="1454040"/>
              <a:ext cx="1739880" cy="2730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52280" y="448956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21080" y="1454040"/>
              <a:ext cx="4559040" cy="31114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62360" y="1746360"/>
              <a:ext cx="321480" cy="10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29040" y="250812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080120" y="2590920"/>
              <a:ext cx="470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175000" y="1828800"/>
              <a:ext cx="1307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650760" y="1974960"/>
              <a:ext cx="2832120" cy="622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219320" y="4184640"/>
              <a:ext cx="0" cy="317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23560" y="374760"/>
              <a:ext cx="672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7   8    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91320" y="6159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3600" y="6159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6159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747720" y="1233360"/>
            <a:ext cx="7643880" cy="4724640"/>
            <a:chOff x="747720" y="1233360"/>
            <a:chExt cx="7643880" cy="4724640"/>
          </a:xfrm>
        </p:grpSpPr>
        <p:sp>
          <p:nvSpPr>
            <p:cNvPr id="120" name=""/>
            <p:cNvSpPr/>
            <p:nvPr/>
          </p:nvSpPr>
          <p:spPr>
            <a:xfrm rot="5400000">
              <a:off x="6433920" y="3165480"/>
              <a:ext cx="3613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OPCIONES SUBMENU FILE (ARCHIVO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1469880" y="1233360"/>
              <a:ext cx="607716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47720" y="1601640"/>
              <a:ext cx="307800" cy="26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73160" y="16765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73160" y="21337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73160" y="228600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73160" y="243828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73160" y="25909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73160" y="28195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73160" y="297180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73160" y="312408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73160" y="342900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73160" y="358128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73160" y="37339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73160" y="182880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52640" y="4314960"/>
              <a:ext cx="648972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omencla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.- Inicializa el programa para un nuevo experiment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7.- Configura pagina a imprimi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.- Abre Archivos de Datos (*.sws), ya existente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8.- Imprime ventana activ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.- Cierra la Ventana que esta activa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9.- Imprime todas las ventana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.- Sobregraba el archivo de datos activ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.- Exporta la ventana activa a otra aplica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.- Salva el archivo de datos activo,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.- Importa datos desde otra aplica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n el nombre y la ruta que se le asigne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.- Salir del </a:t>
              </a: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Science Worksho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.- Deshace la opsión de salvar el arch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1514520"/>
            <a:ext cx="6076800" cy="1523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75960" y="1909800"/>
            <a:ext cx="24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5440" y="1981080"/>
            <a:ext cx="67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25440" y="2286000"/>
            <a:ext cx="67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25440" y="2438280"/>
            <a:ext cx="67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25440" y="2666880"/>
            <a:ext cx="67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25440" y="2133720"/>
            <a:ext cx="67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36640" y="3400560"/>
            <a:ext cx="224496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1.- Corta el área seleccio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.- Copia un área seleccio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.- Pega un área seleccio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.- Borr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5.- Selecciona toda la ventana acti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6841080" y="3146040"/>
            <a:ext cx="2862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PCIONES SUBMENU ED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670680" y="714240"/>
            <a:ext cx="7573320" cy="5594040"/>
            <a:chOff x="670680" y="714240"/>
            <a:chExt cx="7573320" cy="5594040"/>
          </a:xfrm>
        </p:grpSpPr>
        <p:sp>
          <p:nvSpPr>
            <p:cNvPr id="146" name=""/>
            <p:cNvSpPr/>
            <p:nvPr/>
          </p:nvSpPr>
          <p:spPr>
            <a:xfrm rot="5400000">
              <a:off x="6385320" y="2918520"/>
              <a:ext cx="3415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OPCIONES SUBMENU EXPER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1066680" y="714240"/>
              <a:ext cx="607716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70680" y="1147680"/>
              <a:ext cx="309600" cy="34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20880" y="12193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20880" y="16002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20880" y="19051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20880" y="22860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20880" y="25909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20880" y="27432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20880" y="289548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0880" y="30481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0880" y="35053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0880" y="380988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0880" y="41148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0880" y="44197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07200" y="5076720"/>
              <a:ext cx="5142240" cy="12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omencla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.- Inicia registro de dato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7.- Desconecta la interfa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.- Inicia el monitoreo de dato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8.- Cambia la interfa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.- Pausa en el registro de dato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9.- Minimiza el área de configura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.- Para el registro de dato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.- Activa el generador de seña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.- Activa ventana Opciones de muestre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.- Activa el block de not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.- Conecta la interfaz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.- Activa calculado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95280" y="1228680"/>
            <a:ext cx="6077160" cy="3162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5400000">
            <a:off x="6537600" y="3070800"/>
            <a:ext cx="3198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PCIONES SUBMENU DESPLE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99640" y="1681200"/>
            <a:ext cx="24552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9480" y="175248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9480" y="213372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9480" y="243828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9480" y="281952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9480" y="320040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9480" y="350532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9480" y="380988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9480" y="396252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5480" y="4772160"/>
            <a:ext cx="38955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.- Activa medidor digital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5.-Activa una tabla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.- Activa medidor analógico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6.- Activa un gráf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.- Activa Osciloscopio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7.- Despliega  configu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.- Activa tarnsformadas de Fourier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8.- Oculta ventana a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284840" y="533520"/>
            <a:ext cx="7033320" cy="5925240"/>
            <a:chOff x="1284840" y="533520"/>
            <a:chExt cx="7033320" cy="5925240"/>
          </a:xfrm>
        </p:grpSpPr>
        <p:sp>
          <p:nvSpPr>
            <p:cNvPr id="175" name=""/>
            <p:cNvSpPr/>
            <p:nvPr/>
          </p:nvSpPr>
          <p:spPr>
            <a:xfrm rot="5400000">
              <a:off x="6976080" y="2742120"/>
              <a:ext cx="21686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CONOS DE COM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OSCILOSCOP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1600200" y="1077840"/>
              <a:ext cx="4543560" cy="30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808640" y="4724280"/>
              <a:ext cx="16218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          2        3            4    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27560" y="4724280"/>
              <a:ext cx="533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     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90600" y="1066680"/>
              <a:ext cx="30960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77320" y="533520"/>
              <a:ext cx="1173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5         14          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48320" y="7635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11640" y="763560"/>
              <a:ext cx="292320" cy="749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6400" y="763560"/>
              <a:ext cx="0" cy="59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721480" y="1208160"/>
              <a:ext cx="977760" cy="164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0080" y="1442880"/>
              <a:ext cx="749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21480" y="1601640"/>
              <a:ext cx="977760" cy="63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02360" y="1830240"/>
              <a:ext cx="596880" cy="139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981080" y="3875040"/>
              <a:ext cx="0" cy="774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62320" y="39639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66880" y="39639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24080" y="3887640"/>
              <a:ext cx="0" cy="749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76720" y="4116240"/>
              <a:ext cx="0" cy="520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9880" y="2211480"/>
              <a:ext cx="2044440" cy="4442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95680" y="2058840"/>
              <a:ext cx="0" cy="2578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24280" y="2440080"/>
              <a:ext cx="0" cy="2197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07280" y="2433600"/>
              <a:ext cx="2919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84840" y="4952880"/>
              <a:ext cx="5777640" cy="15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omencla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.- Selecciona la variable de las absiza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9.-Combina la traza superior con la traza inferi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.- Reduce el rango de escala de las absiza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.- Desplaza la traza hacia abaj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.- Amplia el rango de escala de las absiza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.- Exporta los datos de la traz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.- Activa y desactiva el Trigger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.- Desplaza la traza hacia arrib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.- Activa y desactiva cursor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3.- Amplia el rango de escala de las ordenad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.- Selector de variable, segundo cluster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4.- Reduce el rango de  escala de las ordenad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7.- Selector de variable, tercer cluster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5.- Selector de variable, primer clus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.- Panel de comandos de un clus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219320" y="914400"/>
            <a:ext cx="6914880" cy="5270040"/>
            <a:chOff x="1219320" y="914400"/>
            <a:chExt cx="6914880" cy="5270040"/>
          </a:xfrm>
        </p:grpSpPr>
        <p:sp>
          <p:nvSpPr>
            <p:cNvPr id="199" name=""/>
            <p:cNvSpPr/>
            <p:nvPr/>
          </p:nvSpPr>
          <p:spPr>
            <a:xfrm rot="5400000">
              <a:off x="6638400" y="2961000"/>
              <a:ext cx="24764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ONFIGURACIÓN DE L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OPCIONES DE MUESTR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1793880" y="1890720"/>
              <a:ext cx="49147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274400" y="2590920"/>
              <a:ext cx="245520" cy="15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23880" y="2668680"/>
              <a:ext cx="749520" cy="21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3880" y="3119400"/>
              <a:ext cx="520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523880" y="3112920"/>
              <a:ext cx="1359000" cy="393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3880" y="4033800"/>
              <a:ext cx="520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9320" y="2363760"/>
              <a:ext cx="2273040" cy="1282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57600" y="1754280"/>
              <a:ext cx="1282680" cy="16635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05520" y="1754280"/>
              <a:ext cx="1282680" cy="16635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19920" y="27385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9920" y="31194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19920" y="327168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9920" y="28908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89400" y="2666880"/>
              <a:ext cx="2455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203560" y="1208160"/>
              <a:ext cx="0" cy="1155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260960" y="1207800"/>
              <a:ext cx="0" cy="546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708520" y="1207800"/>
              <a:ext cx="0" cy="546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22120" y="914400"/>
              <a:ext cx="3830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                                                             10                                           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3160" y="4952880"/>
              <a:ext cx="4648320" cy="12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omencla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.- Cambia el período de muestre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7.- Condición por ca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.- Rango bajo de frecuencia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8.- Sin condi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.- Rango alto de frecuencia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9.- Condiciones para detener el muestre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.- Selector de ingreso por teclad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.- Condiciones para iniciar el muestre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.- Condición por muestre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.- Selector del período de muestre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.- Condición por tiemp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18:12:58Z</dcterms:created>
  <dc:creator>nosotros</dc:creator>
  <dc:description/>
  <dc:language>en-US</dc:language>
  <cp:lastModifiedBy>nosotros</cp:lastModifiedBy>
  <dcterms:modified xsi:type="dcterms:W3CDTF">1998-05-11T18:37:46Z</dcterms:modified>
  <cp:revision>1</cp:revision>
  <dc:subject/>
  <dc:title>Sin título de diapositiva</dc:title>
</cp:coreProperties>
</file>